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DA4-7260-4F51-8CFF-1F8673DB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476-6F6E-43FE-BF68-3170C7CE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1F0-8151-482D-AC31-955931B7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A27-DABA-4D6F-9250-A456229D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0AC-DB5B-4C82-8DFE-29ADC193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F95-552B-49AE-AAE4-10E0C3E1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50B-13F1-4CD0-8E85-E3296174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90F-EABE-4063-8B52-9D0E2DBA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D78-917E-45DA-A4C4-B9398EDC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E91-3EDF-473A-826F-657849C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AB1-2CBC-465B-AED0-B9AA773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3A3-AB5C-4F2C-851B-6E34C0FB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E298-8542-4F1F-98FF-D949B1A44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c/Greece_West_Coast_Parga_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cient-greece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57200" y="152280"/>
            <a:ext cx="8381880" cy="64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36800" y="5365800"/>
            <a:ext cx="1492560" cy="112680"/>
          </a:xfrm>
          <a:custGeom>
            <a:avLst/>
            <a:gdLst/>
            <a:ahLst/>
            <a:rect l="l" t="t" r="r" b="b"/>
            <a:pathLst>
              <a:path w="4145" h="310">
                <a:moveTo>
                  <a:pt x="10382" y="14907"/>
                </a:moveTo>
                <a:cubicBezTo>
                  <a:pt x="10513" y="14952"/>
                  <a:pt x="10623" y="14958"/>
                  <a:pt x="10763" y="14978"/>
                </a:cubicBezTo>
                <a:cubicBezTo>
                  <a:pt x="10865" y="14992"/>
                  <a:pt x="10972" y="15017"/>
                  <a:pt x="11073" y="15026"/>
                </a:cubicBezTo>
                <a:cubicBezTo>
                  <a:pt x="11231" y="15040"/>
                  <a:pt x="11481" y="14986"/>
                  <a:pt x="11597" y="15049"/>
                </a:cubicBezTo>
                <a:cubicBezTo>
                  <a:pt x="11639" y="15072"/>
                  <a:pt x="11667" y="15088"/>
                  <a:pt x="11716" y="15097"/>
                </a:cubicBezTo>
                <a:cubicBezTo>
                  <a:pt x="11780" y="15109"/>
                  <a:pt x="11869" y="15114"/>
                  <a:pt x="11930" y="15121"/>
                </a:cubicBezTo>
                <a:cubicBezTo>
                  <a:pt x="11967" y="15125"/>
                  <a:pt x="11992" y="15142"/>
                  <a:pt x="12001" y="15145"/>
                </a:cubicBezTo>
                <a:cubicBezTo>
                  <a:pt x="12036" y="15156"/>
                  <a:pt x="12085" y="15164"/>
                  <a:pt x="12121" y="15169"/>
                </a:cubicBezTo>
                <a:cubicBezTo>
                  <a:pt x="12266" y="15188"/>
                  <a:pt x="12405" y="15156"/>
                  <a:pt x="12549" y="15192"/>
                </a:cubicBezTo>
                <a:cubicBezTo>
                  <a:pt x="12589" y="15202"/>
                  <a:pt x="12616" y="15213"/>
                  <a:pt x="12668" y="15216"/>
                </a:cubicBezTo>
                <a:cubicBezTo>
                  <a:pt x="12771" y="15222"/>
                  <a:pt x="12833" y="15171"/>
                  <a:pt x="12930" y="15145"/>
                </a:cubicBezTo>
                <a:cubicBezTo>
                  <a:pt x="13102" y="15099"/>
                  <a:pt x="13300" y="15121"/>
                  <a:pt x="13478" y="15121"/>
                </a:cubicBezTo>
                <a:cubicBezTo>
                  <a:pt x="13795" y="15121"/>
                  <a:pt x="14113" y="15121"/>
                  <a:pt x="14430" y="15121"/>
                </a:cubicBezTo>
                <a:cubicBezTo>
                  <a:pt x="14440" y="15067"/>
                  <a:pt x="14417" y="15052"/>
                  <a:pt x="14454" y="15026"/>
                </a:cubicBezTo>
                <a:cubicBezTo>
                  <a:pt x="14480" y="15008"/>
                  <a:pt x="14514" y="14985"/>
                  <a:pt x="14526" y="1497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5320" y="2349360"/>
            <a:ext cx="730440" cy="960480"/>
          </a:xfrm>
          <a:custGeom>
            <a:avLst/>
            <a:gdLst/>
            <a:ahLst/>
            <a:rect l="l" t="t" r="r" b="b"/>
            <a:pathLst>
              <a:path w="2025" h="2668">
                <a:moveTo>
                  <a:pt x="7763" y="6525"/>
                </a:moveTo>
                <a:cubicBezTo>
                  <a:pt x="7763" y="6619"/>
                  <a:pt x="7789" y="6759"/>
                  <a:pt x="7739" y="6834"/>
                </a:cubicBezTo>
                <a:cubicBezTo>
                  <a:pt x="7731" y="6834"/>
                  <a:pt x="7723" y="6834"/>
                  <a:pt x="7715" y="6834"/>
                </a:cubicBezTo>
                <a:cubicBezTo>
                  <a:pt x="7707" y="6850"/>
                  <a:pt x="7692" y="6880"/>
                  <a:pt x="7691" y="6882"/>
                </a:cubicBezTo>
                <a:cubicBezTo>
                  <a:pt x="7682" y="6928"/>
                  <a:pt x="7699" y="6938"/>
                  <a:pt x="7668" y="6977"/>
                </a:cubicBezTo>
                <a:cubicBezTo>
                  <a:pt x="7660" y="6977"/>
                  <a:pt x="7652" y="6977"/>
                  <a:pt x="7644" y="6977"/>
                </a:cubicBezTo>
                <a:cubicBezTo>
                  <a:pt x="7625" y="7028"/>
                  <a:pt x="7639" y="7023"/>
                  <a:pt x="7620" y="7072"/>
                </a:cubicBezTo>
                <a:cubicBezTo>
                  <a:pt x="7563" y="7115"/>
                  <a:pt x="7603" y="7057"/>
                  <a:pt x="7549" y="7144"/>
                </a:cubicBezTo>
                <a:cubicBezTo>
                  <a:pt x="7526" y="7181"/>
                  <a:pt x="7495" y="7201"/>
                  <a:pt x="7477" y="7239"/>
                </a:cubicBezTo>
                <a:cubicBezTo>
                  <a:pt x="7457" y="7279"/>
                  <a:pt x="7443" y="7316"/>
                  <a:pt x="7429" y="7358"/>
                </a:cubicBezTo>
                <a:cubicBezTo>
                  <a:pt x="7417" y="7394"/>
                  <a:pt x="7413" y="7411"/>
                  <a:pt x="7406" y="7453"/>
                </a:cubicBezTo>
                <a:cubicBezTo>
                  <a:pt x="7396" y="7473"/>
                  <a:pt x="7372" y="7528"/>
                  <a:pt x="7358" y="7572"/>
                </a:cubicBezTo>
                <a:cubicBezTo>
                  <a:pt x="7330" y="7660"/>
                  <a:pt x="7334" y="7743"/>
                  <a:pt x="7334" y="7834"/>
                </a:cubicBezTo>
                <a:cubicBezTo>
                  <a:pt x="7334" y="7842"/>
                  <a:pt x="7334" y="7850"/>
                  <a:pt x="7334" y="7858"/>
                </a:cubicBezTo>
                <a:cubicBezTo>
                  <a:pt x="7329" y="7875"/>
                  <a:pt x="7319" y="7955"/>
                  <a:pt x="7310" y="8001"/>
                </a:cubicBezTo>
                <a:cubicBezTo>
                  <a:pt x="7300" y="8050"/>
                  <a:pt x="7294" y="8076"/>
                  <a:pt x="7287" y="8120"/>
                </a:cubicBezTo>
                <a:cubicBezTo>
                  <a:pt x="7263" y="8120"/>
                  <a:pt x="7239" y="8120"/>
                  <a:pt x="7215" y="8120"/>
                </a:cubicBezTo>
                <a:cubicBezTo>
                  <a:pt x="7213" y="8121"/>
                  <a:pt x="7184" y="8136"/>
                  <a:pt x="7168" y="8144"/>
                </a:cubicBezTo>
                <a:cubicBezTo>
                  <a:pt x="7139" y="8173"/>
                  <a:pt x="7069" y="8245"/>
                  <a:pt x="7025" y="8287"/>
                </a:cubicBezTo>
                <a:cubicBezTo>
                  <a:pt x="6969" y="8341"/>
                  <a:pt x="6922" y="8388"/>
                  <a:pt x="6858" y="8430"/>
                </a:cubicBezTo>
                <a:cubicBezTo>
                  <a:pt x="6836" y="8451"/>
                  <a:pt x="6831" y="8459"/>
                  <a:pt x="6810" y="8453"/>
                </a:cubicBezTo>
                <a:cubicBezTo>
                  <a:pt x="6791" y="8474"/>
                  <a:pt x="6783" y="8523"/>
                  <a:pt x="6763" y="8549"/>
                </a:cubicBezTo>
                <a:cubicBezTo>
                  <a:pt x="6731" y="8590"/>
                  <a:pt x="6713" y="8590"/>
                  <a:pt x="6691" y="8644"/>
                </a:cubicBezTo>
                <a:cubicBezTo>
                  <a:pt x="6651" y="8688"/>
                  <a:pt x="6584" y="8746"/>
                  <a:pt x="6548" y="8811"/>
                </a:cubicBezTo>
                <a:cubicBezTo>
                  <a:pt x="6548" y="8819"/>
                  <a:pt x="6548" y="8826"/>
                  <a:pt x="6548" y="8834"/>
                </a:cubicBezTo>
                <a:cubicBezTo>
                  <a:pt x="6519" y="8849"/>
                  <a:pt x="6531" y="8843"/>
                  <a:pt x="6501" y="8858"/>
                </a:cubicBezTo>
                <a:cubicBezTo>
                  <a:pt x="6469" y="8894"/>
                  <a:pt x="6423" y="8954"/>
                  <a:pt x="6382" y="9001"/>
                </a:cubicBezTo>
                <a:cubicBezTo>
                  <a:pt x="6334" y="9056"/>
                  <a:pt x="6364" y="9030"/>
                  <a:pt x="6334" y="9073"/>
                </a:cubicBezTo>
                <a:cubicBezTo>
                  <a:pt x="6281" y="9082"/>
                  <a:pt x="6261" y="9073"/>
                  <a:pt x="6215" y="9096"/>
                </a:cubicBezTo>
                <a:cubicBezTo>
                  <a:pt x="6179" y="9114"/>
                  <a:pt x="6161" y="9136"/>
                  <a:pt x="6120" y="9144"/>
                </a:cubicBezTo>
                <a:cubicBezTo>
                  <a:pt x="6090" y="9149"/>
                  <a:pt x="6045" y="9165"/>
                  <a:pt x="6025" y="9168"/>
                </a:cubicBezTo>
                <a:cubicBezTo>
                  <a:pt x="5976" y="9175"/>
                  <a:pt x="5929" y="9187"/>
                  <a:pt x="5882" y="9192"/>
                </a:cubicBezTo>
                <a:cubicBezTo>
                  <a:pt x="5836" y="9197"/>
                  <a:pt x="5786" y="9192"/>
                  <a:pt x="5739" y="9192"/>
                </a:cubicBezTo>
                <a:cubicBezTo>
                  <a:pt x="5739" y="9168"/>
                  <a:pt x="5739" y="9160"/>
                  <a:pt x="5739" y="91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3265560"/>
            <a:ext cx="1398600" cy="1363680"/>
          </a:xfrm>
          <a:custGeom>
            <a:avLst/>
            <a:gdLst/>
            <a:ahLst/>
            <a:rect l="l" t="t" r="r" b="b"/>
            <a:pathLst>
              <a:path w="3882" h="3787">
                <a:moveTo>
                  <a:pt x="5501" y="9073"/>
                </a:moveTo>
                <a:cubicBezTo>
                  <a:pt x="5518" y="9086"/>
                  <a:pt x="5535" y="9111"/>
                  <a:pt x="5548" y="9120"/>
                </a:cubicBezTo>
                <a:cubicBezTo>
                  <a:pt x="5606" y="9159"/>
                  <a:pt x="5659" y="9197"/>
                  <a:pt x="5715" y="9239"/>
                </a:cubicBezTo>
                <a:cubicBezTo>
                  <a:pt x="5743" y="9260"/>
                  <a:pt x="5773" y="9302"/>
                  <a:pt x="5786" y="9311"/>
                </a:cubicBezTo>
                <a:cubicBezTo>
                  <a:pt x="5810" y="9327"/>
                  <a:pt x="5845" y="9347"/>
                  <a:pt x="5858" y="9358"/>
                </a:cubicBezTo>
                <a:cubicBezTo>
                  <a:pt x="5880" y="9376"/>
                  <a:pt x="5909" y="9365"/>
                  <a:pt x="5929" y="9382"/>
                </a:cubicBezTo>
                <a:cubicBezTo>
                  <a:pt x="5950" y="9400"/>
                  <a:pt x="5991" y="9475"/>
                  <a:pt x="6025" y="9501"/>
                </a:cubicBezTo>
                <a:cubicBezTo>
                  <a:pt x="6055" y="9525"/>
                  <a:pt x="6154" y="9592"/>
                  <a:pt x="6167" y="9596"/>
                </a:cubicBezTo>
                <a:cubicBezTo>
                  <a:pt x="6296" y="9639"/>
                  <a:pt x="6539" y="9618"/>
                  <a:pt x="6667" y="9620"/>
                </a:cubicBezTo>
                <a:cubicBezTo>
                  <a:pt x="6780" y="9622"/>
                  <a:pt x="6950" y="9639"/>
                  <a:pt x="7025" y="9644"/>
                </a:cubicBezTo>
                <a:cubicBezTo>
                  <a:pt x="7522" y="9680"/>
                  <a:pt x="8100" y="9549"/>
                  <a:pt x="8572" y="9668"/>
                </a:cubicBezTo>
                <a:cubicBezTo>
                  <a:pt x="8623" y="9681"/>
                  <a:pt x="8663" y="9695"/>
                  <a:pt x="8715" y="9715"/>
                </a:cubicBezTo>
                <a:cubicBezTo>
                  <a:pt x="8762" y="9733"/>
                  <a:pt x="8812" y="9773"/>
                  <a:pt x="8858" y="9787"/>
                </a:cubicBezTo>
                <a:cubicBezTo>
                  <a:pt x="8889" y="9797"/>
                  <a:pt x="8923" y="9806"/>
                  <a:pt x="8953" y="9811"/>
                </a:cubicBezTo>
                <a:cubicBezTo>
                  <a:pt x="9045" y="9827"/>
                  <a:pt x="9095" y="9825"/>
                  <a:pt x="9168" y="9882"/>
                </a:cubicBezTo>
                <a:cubicBezTo>
                  <a:pt x="9211" y="9915"/>
                  <a:pt x="9236" y="9951"/>
                  <a:pt x="9263" y="9977"/>
                </a:cubicBezTo>
                <a:cubicBezTo>
                  <a:pt x="9308" y="10020"/>
                  <a:pt x="9363" y="10066"/>
                  <a:pt x="9382" y="10120"/>
                </a:cubicBezTo>
                <a:cubicBezTo>
                  <a:pt x="9392" y="10148"/>
                  <a:pt x="9376" y="10187"/>
                  <a:pt x="9382" y="10216"/>
                </a:cubicBezTo>
                <a:cubicBezTo>
                  <a:pt x="9237" y="10240"/>
                  <a:pt x="9200" y="10236"/>
                  <a:pt x="9049" y="10311"/>
                </a:cubicBezTo>
                <a:cubicBezTo>
                  <a:pt x="8975" y="10348"/>
                  <a:pt x="8902" y="10353"/>
                  <a:pt x="8834" y="10382"/>
                </a:cubicBezTo>
                <a:cubicBezTo>
                  <a:pt x="8761" y="10413"/>
                  <a:pt x="8678" y="10442"/>
                  <a:pt x="8596" y="10477"/>
                </a:cubicBezTo>
                <a:cubicBezTo>
                  <a:pt x="8536" y="10502"/>
                  <a:pt x="8507" y="10510"/>
                  <a:pt x="8453" y="10525"/>
                </a:cubicBezTo>
                <a:cubicBezTo>
                  <a:pt x="8394" y="10541"/>
                  <a:pt x="8323" y="10538"/>
                  <a:pt x="8263" y="10549"/>
                </a:cubicBezTo>
                <a:cubicBezTo>
                  <a:pt x="8225" y="10556"/>
                  <a:pt x="8210" y="10570"/>
                  <a:pt x="8168" y="10573"/>
                </a:cubicBezTo>
                <a:cubicBezTo>
                  <a:pt x="7928" y="10590"/>
                  <a:pt x="7741" y="10475"/>
                  <a:pt x="7525" y="10382"/>
                </a:cubicBezTo>
                <a:cubicBezTo>
                  <a:pt x="7386" y="10322"/>
                  <a:pt x="7268" y="10293"/>
                  <a:pt x="7144" y="10216"/>
                </a:cubicBezTo>
                <a:cubicBezTo>
                  <a:pt x="7121" y="10202"/>
                  <a:pt x="7090" y="10172"/>
                  <a:pt x="7072" y="10168"/>
                </a:cubicBezTo>
                <a:cubicBezTo>
                  <a:pt x="6971" y="10147"/>
                  <a:pt x="6850" y="10170"/>
                  <a:pt x="6763" y="10192"/>
                </a:cubicBezTo>
                <a:cubicBezTo>
                  <a:pt x="6701" y="10208"/>
                  <a:pt x="6651" y="10250"/>
                  <a:pt x="6596" y="10263"/>
                </a:cubicBezTo>
                <a:cubicBezTo>
                  <a:pt x="6512" y="10283"/>
                  <a:pt x="6424" y="10280"/>
                  <a:pt x="6358" y="10335"/>
                </a:cubicBezTo>
                <a:cubicBezTo>
                  <a:pt x="6308" y="10377"/>
                  <a:pt x="6330" y="10350"/>
                  <a:pt x="6310" y="10406"/>
                </a:cubicBezTo>
                <a:cubicBezTo>
                  <a:pt x="6287" y="10470"/>
                  <a:pt x="6318" y="10570"/>
                  <a:pt x="6334" y="10620"/>
                </a:cubicBezTo>
                <a:cubicBezTo>
                  <a:pt x="6342" y="10644"/>
                  <a:pt x="6370" y="10695"/>
                  <a:pt x="6382" y="10716"/>
                </a:cubicBezTo>
                <a:cubicBezTo>
                  <a:pt x="6406" y="10757"/>
                  <a:pt x="6450" y="10795"/>
                  <a:pt x="6477" y="10835"/>
                </a:cubicBezTo>
                <a:cubicBezTo>
                  <a:pt x="6495" y="10861"/>
                  <a:pt x="6505" y="10861"/>
                  <a:pt x="6525" y="10882"/>
                </a:cubicBezTo>
                <a:cubicBezTo>
                  <a:pt x="6537" y="10895"/>
                  <a:pt x="6556" y="10937"/>
                  <a:pt x="6572" y="10954"/>
                </a:cubicBezTo>
                <a:cubicBezTo>
                  <a:pt x="6590" y="10973"/>
                  <a:pt x="6602" y="10977"/>
                  <a:pt x="6620" y="11001"/>
                </a:cubicBezTo>
                <a:cubicBezTo>
                  <a:pt x="6655" y="11047"/>
                  <a:pt x="6702" y="11077"/>
                  <a:pt x="6739" y="11120"/>
                </a:cubicBezTo>
                <a:cubicBezTo>
                  <a:pt x="6788" y="11176"/>
                  <a:pt x="6817" y="11249"/>
                  <a:pt x="6858" y="11311"/>
                </a:cubicBezTo>
                <a:cubicBezTo>
                  <a:pt x="6895" y="11366"/>
                  <a:pt x="6924" y="11401"/>
                  <a:pt x="6953" y="11454"/>
                </a:cubicBezTo>
                <a:cubicBezTo>
                  <a:pt x="7007" y="11554"/>
                  <a:pt x="7057" y="11665"/>
                  <a:pt x="7120" y="11763"/>
                </a:cubicBezTo>
                <a:cubicBezTo>
                  <a:pt x="7169" y="11840"/>
                  <a:pt x="7255" y="11923"/>
                  <a:pt x="7287" y="12001"/>
                </a:cubicBezTo>
                <a:cubicBezTo>
                  <a:pt x="7318" y="12076"/>
                  <a:pt x="7299" y="12182"/>
                  <a:pt x="7310" y="12263"/>
                </a:cubicBezTo>
                <a:cubicBezTo>
                  <a:pt x="7317" y="12312"/>
                  <a:pt x="7329" y="12359"/>
                  <a:pt x="7334" y="12406"/>
                </a:cubicBezTo>
                <a:cubicBezTo>
                  <a:pt x="7334" y="12430"/>
                  <a:pt x="7334" y="12438"/>
                  <a:pt x="7334" y="12454"/>
                </a:cubicBezTo>
                <a:cubicBezTo>
                  <a:pt x="7393" y="12444"/>
                  <a:pt x="7420" y="12451"/>
                  <a:pt x="7453" y="12430"/>
                </a:cubicBezTo>
                <a:cubicBezTo>
                  <a:pt x="7487" y="12408"/>
                  <a:pt x="7475" y="12386"/>
                  <a:pt x="7525" y="12359"/>
                </a:cubicBezTo>
                <a:cubicBezTo>
                  <a:pt x="7564" y="12338"/>
                  <a:pt x="7603" y="12337"/>
                  <a:pt x="7644" y="12311"/>
                </a:cubicBezTo>
                <a:cubicBezTo>
                  <a:pt x="7682" y="12287"/>
                  <a:pt x="7696" y="12251"/>
                  <a:pt x="7739" y="12240"/>
                </a:cubicBezTo>
                <a:cubicBezTo>
                  <a:pt x="7861" y="12208"/>
                  <a:pt x="8049" y="12237"/>
                  <a:pt x="8144" y="12287"/>
                </a:cubicBezTo>
                <a:cubicBezTo>
                  <a:pt x="8246" y="12341"/>
                  <a:pt x="8402" y="12518"/>
                  <a:pt x="8430" y="12573"/>
                </a:cubicBezTo>
                <a:cubicBezTo>
                  <a:pt x="8454" y="12621"/>
                  <a:pt x="8407" y="12706"/>
                  <a:pt x="8406" y="12716"/>
                </a:cubicBezTo>
                <a:cubicBezTo>
                  <a:pt x="8402" y="12747"/>
                  <a:pt x="8368" y="12733"/>
                  <a:pt x="8358" y="12763"/>
                </a:cubicBezTo>
                <a:cubicBezTo>
                  <a:pt x="8358" y="12795"/>
                  <a:pt x="8358" y="12811"/>
                  <a:pt x="8358" y="12835"/>
                </a:cubicBezTo>
                <a:cubicBezTo>
                  <a:pt x="8387" y="12815"/>
                  <a:pt x="8387" y="12802"/>
                  <a:pt x="8406" y="12787"/>
                </a:cubicBezTo>
                <a:cubicBezTo>
                  <a:pt x="8438" y="12762"/>
                  <a:pt x="8491" y="12746"/>
                  <a:pt x="8525" y="12716"/>
                </a:cubicBezTo>
                <a:cubicBezTo>
                  <a:pt x="8559" y="12686"/>
                  <a:pt x="8570" y="12686"/>
                  <a:pt x="8596" y="12668"/>
                </a:cubicBezTo>
                <a:cubicBezTo>
                  <a:pt x="8619" y="12652"/>
                  <a:pt x="8605" y="12630"/>
                  <a:pt x="8644" y="12621"/>
                </a:cubicBezTo>
                <a:cubicBezTo>
                  <a:pt x="8734" y="12600"/>
                  <a:pt x="8898" y="12622"/>
                  <a:pt x="8953" y="12644"/>
                </a:cubicBezTo>
                <a:cubicBezTo>
                  <a:pt x="8977" y="12654"/>
                  <a:pt x="8988" y="12687"/>
                  <a:pt x="9001" y="12692"/>
                </a:cubicBezTo>
                <a:cubicBezTo>
                  <a:pt x="9031" y="12704"/>
                  <a:pt x="9066" y="12706"/>
                  <a:pt x="9096" y="12716"/>
                </a:cubicBezTo>
                <a:cubicBezTo>
                  <a:pt x="9134" y="12728"/>
                  <a:pt x="9180" y="12722"/>
                  <a:pt x="9215" y="12740"/>
                </a:cubicBezTo>
                <a:cubicBezTo>
                  <a:pt x="9253" y="12759"/>
                  <a:pt x="9293" y="12821"/>
                  <a:pt x="9311" y="12835"/>
                </a:cubicBezTo>
                <a:cubicBezTo>
                  <a:pt x="9278" y="12795"/>
                  <a:pt x="9294" y="12829"/>
                  <a:pt x="9263" y="12787"/>
                </a:cubicBezTo>
                <a:cubicBezTo>
                  <a:pt x="9166" y="12655"/>
                  <a:pt x="9065" y="12503"/>
                  <a:pt x="8977" y="12382"/>
                </a:cubicBezTo>
                <a:cubicBezTo>
                  <a:pt x="8960" y="12358"/>
                  <a:pt x="8921" y="12328"/>
                  <a:pt x="8906" y="12311"/>
                </a:cubicBezTo>
                <a:cubicBezTo>
                  <a:pt x="8894" y="12298"/>
                  <a:pt x="8866" y="12274"/>
                  <a:pt x="8858" y="12263"/>
                </a:cubicBezTo>
                <a:cubicBezTo>
                  <a:pt x="8740" y="12095"/>
                  <a:pt x="8624" y="11896"/>
                  <a:pt x="8525" y="11716"/>
                </a:cubicBezTo>
                <a:cubicBezTo>
                  <a:pt x="8424" y="11532"/>
                  <a:pt x="8332" y="11340"/>
                  <a:pt x="8215" y="11168"/>
                </a:cubicBezTo>
                <a:cubicBezTo>
                  <a:pt x="8200" y="11146"/>
                  <a:pt x="8180" y="11137"/>
                  <a:pt x="8168" y="11120"/>
                </a:cubicBezTo>
                <a:cubicBezTo>
                  <a:pt x="8150" y="11128"/>
                  <a:pt x="8125" y="11163"/>
                  <a:pt x="8096" y="11168"/>
                </a:cubicBezTo>
                <a:cubicBezTo>
                  <a:pt x="7956" y="11193"/>
                  <a:pt x="7875" y="11107"/>
                  <a:pt x="7763" y="11049"/>
                </a:cubicBezTo>
                <a:cubicBezTo>
                  <a:pt x="7671" y="11002"/>
                  <a:pt x="7567" y="10957"/>
                  <a:pt x="7477" y="10906"/>
                </a:cubicBezTo>
                <a:cubicBezTo>
                  <a:pt x="7449" y="10890"/>
                  <a:pt x="7438" y="10880"/>
                  <a:pt x="7406" y="10858"/>
                </a:cubicBezTo>
                <a:cubicBezTo>
                  <a:pt x="7365" y="10830"/>
                  <a:pt x="7255" y="10756"/>
                  <a:pt x="7191" y="10716"/>
                </a:cubicBezTo>
                <a:cubicBezTo>
                  <a:pt x="7005" y="10598"/>
                  <a:pt x="6823" y="10486"/>
                  <a:pt x="6644" y="10358"/>
                </a:cubicBezTo>
                <a:cubicBezTo>
                  <a:pt x="6606" y="10331"/>
                  <a:pt x="6574" y="10300"/>
                  <a:pt x="6548" y="10287"/>
                </a:cubicBezTo>
                <a:cubicBezTo>
                  <a:pt x="6525" y="10287"/>
                  <a:pt x="6517" y="10287"/>
                  <a:pt x="6501" y="10287"/>
                </a:cubicBezTo>
                <a:cubicBezTo>
                  <a:pt x="6501" y="10327"/>
                  <a:pt x="6467" y="10344"/>
                  <a:pt x="6477" y="10382"/>
                </a:cubicBezTo>
                <a:cubicBezTo>
                  <a:pt x="6517" y="10540"/>
                  <a:pt x="6625" y="10731"/>
                  <a:pt x="6691" y="10882"/>
                </a:cubicBezTo>
                <a:cubicBezTo>
                  <a:pt x="6719" y="10947"/>
                  <a:pt x="6767" y="11037"/>
                  <a:pt x="6810" y="11073"/>
                </a:cubicBezTo>
                <a:cubicBezTo>
                  <a:pt x="6835" y="11094"/>
                  <a:pt x="6845" y="11078"/>
                  <a:pt x="6882" y="11097"/>
                </a:cubicBezTo>
                <a:cubicBezTo>
                  <a:pt x="6919" y="11116"/>
                  <a:pt x="6930" y="11125"/>
                  <a:pt x="6977" y="11144"/>
                </a:cubicBezTo>
                <a:cubicBezTo>
                  <a:pt x="7060" y="11178"/>
                  <a:pt x="7074" y="11214"/>
                  <a:pt x="7144" y="11263"/>
                </a:cubicBezTo>
                <a:cubicBezTo>
                  <a:pt x="7194" y="11298"/>
                  <a:pt x="7266" y="11367"/>
                  <a:pt x="7310" y="11382"/>
                </a:cubicBezTo>
                <a:cubicBezTo>
                  <a:pt x="7359" y="11398"/>
                  <a:pt x="7406" y="11387"/>
                  <a:pt x="7453" y="11406"/>
                </a:cubicBezTo>
                <a:cubicBezTo>
                  <a:pt x="7496" y="11423"/>
                  <a:pt x="7530" y="11461"/>
                  <a:pt x="7572" y="11478"/>
                </a:cubicBezTo>
                <a:cubicBezTo>
                  <a:pt x="7605" y="11491"/>
                  <a:pt x="7602" y="11488"/>
                  <a:pt x="7644" y="11501"/>
                </a:cubicBezTo>
                <a:cubicBezTo>
                  <a:pt x="7691" y="11516"/>
                  <a:pt x="7760" y="11521"/>
                  <a:pt x="7810" y="11525"/>
                </a:cubicBezTo>
                <a:cubicBezTo>
                  <a:pt x="7918" y="11534"/>
                  <a:pt x="7974" y="11543"/>
                  <a:pt x="8072" y="11597"/>
                </a:cubicBezTo>
                <a:cubicBezTo>
                  <a:pt x="8131" y="11630"/>
                  <a:pt x="8189" y="11665"/>
                  <a:pt x="8239" y="11716"/>
                </a:cubicBezTo>
                <a:cubicBezTo>
                  <a:pt x="8266" y="11744"/>
                  <a:pt x="8266" y="11786"/>
                  <a:pt x="8287" y="11811"/>
                </a:cubicBezTo>
                <a:cubicBezTo>
                  <a:pt x="8312" y="11841"/>
                  <a:pt x="8360" y="11883"/>
                  <a:pt x="8382" y="11906"/>
                </a:cubicBezTo>
                <a:cubicBezTo>
                  <a:pt x="8402" y="11927"/>
                  <a:pt x="8422" y="11923"/>
                  <a:pt x="8453" y="11954"/>
                </a:cubicBezTo>
                <a:cubicBezTo>
                  <a:pt x="8475" y="11976"/>
                  <a:pt x="8487" y="11973"/>
                  <a:pt x="8501" y="12001"/>
                </a:cubicBezTo>
                <a:cubicBezTo>
                  <a:pt x="8516" y="12031"/>
                  <a:pt x="8512" y="12088"/>
                  <a:pt x="8525" y="12121"/>
                </a:cubicBezTo>
                <a:cubicBezTo>
                  <a:pt x="8539" y="12156"/>
                  <a:pt x="8634" y="12186"/>
                  <a:pt x="8596" y="12192"/>
                </a:cubicBezTo>
                <a:cubicBezTo>
                  <a:pt x="8556" y="12198"/>
                  <a:pt x="8342" y="12039"/>
                  <a:pt x="8311" y="12025"/>
                </a:cubicBezTo>
                <a:cubicBezTo>
                  <a:pt x="8195" y="11973"/>
                  <a:pt x="8121" y="11927"/>
                  <a:pt x="8025" y="11859"/>
                </a:cubicBezTo>
                <a:cubicBezTo>
                  <a:pt x="7986" y="11831"/>
                  <a:pt x="8012" y="11827"/>
                  <a:pt x="7953" y="11811"/>
                </a:cubicBezTo>
                <a:cubicBezTo>
                  <a:pt x="7801" y="11771"/>
                  <a:pt x="7587" y="11812"/>
                  <a:pt x="7453" y="11859"/>
                </a:cubicBezTo>
                <a:cubicBezTo>
                  <a:pt x="7418" y="11871"/>
                  <a:pt x="7366" y="11889"/>
                  <a:pt x="7334" y="11906"/>
                </a:cubicBezTo>
                <a:cubicBezTo>
                  <a:pt x="7310" y="11918"/>
                  <a:pt x="7291" y="11913"/>
                  <a:pt x="7263" y="11930"/>
                </a:cubicBezTo>
                <a:cubicBezTo>
                  <a:pt x="7189" y="11975"/>
                  <a:pt x="7119" y="12046"/>
                  <a:pt x="7048" y="12097"/>
                </a:cubicBezTo>
                <a:cubicBezTo>
                  <a:pt x="7023" y="12115"/>
                  <a:pt x="7014" y="12115"/>
                  <a:pt x="7001" y="12144"/>
                </a:cubicBezTo>
                <a:cubicBezTo>
                  <a:pt x="6995" y="12156"/>
                  <a:pt x="6961" y="12170"/>
                  <a:pt x="6977" y="12216"/>
                </a:cubicBezTo>
                <a:cubicBezTo>
                  <a:pt x="7012" y="12318"/>
                  <a:pt x="7097" y="12378"/>
                  <a:pt x="7168" y="12454"/>
                </a:cubicBezTo>
                <a:cubicBezTo>
                  <a:pt x="7205" y="12493"/>
                  <a:pt x="7263" y="12548"/>
                  <a:pt x="7287" y="12573"/>
                </a:cubicBezTo>
                <a:cubicBezTo>
                  <a:pt x="7287" y="12597"/>
                  <a:pt x="7287" y="12605"/>
                  <a:pt x="7310" y="125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2960" y="4611600"/>
            <a:ext cx="9360" cy="95400"/>
          </a:xfrm>
          <a:custGeom>
            <a:avLst/>
            <a:gdLst/>
            <a:ahLst/>
            <a:rect l="l" t="t" r="r" b="b"/>
            <a:pathLst>
              <a:path w="25" h="263">
                <a:moveTo>
                  <a:pt x="8287" y="12811"/>
                </a:moveTo>
                <a:cubicBezTo>
                  <a:pt x="8287" y="12877"/>
                  <a:pt x="8260" y="13056"/>
                  <a:pt x="8311" y="1307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5800" y="3943440"/>
            <a:ext cx="138240" cy="309600"/>
          </a:xfrm>
          <a:custGeom>
            <a:avLst/>
            <a:gdLst/>
            <a:ahLst/>
            <a:rect l="l" t="t" r="r" b="b"/>
            <a:pathLst>
              <a:path w="382" h="858">
                <a:moveTo>
                  <a:pt x="8406" y="10954"/>
                </a:moveTo>
                <a:cubicBezTo>
                  <a:pt x="8406" y="11012"/>
                  <a:pt x="8405" y="11043"/>
                  <a:pt x="8430" y="11097"/>
                </a:cubicBezTo>
                <a:cubicBezTo>
                  <a:pt x="8490" y="11227"/>
                  <a:pt x="8554" y="11351"/>
                  <a:pt x="8620" y="11478"/>
                </a:cubicBezTo>
                <a:cubicBezTo>
                  <a:pt x="8629" y="11496"/>
                  <a:pt x="8661" y="11615"/>
                  <a:pt x="8668" y="11620"/>
                </a:cubicBezTo>
                <a:cubicBezTo>
                  <a:pt x="8718" y="11659"/>
                  <a:pt x="8705" y="11720"/>
                  <a:pt x="8739" y="11763"/>
                </a:cubicBezTo>
                <a:cubicBezTo>
                  <a:pt x="8778" y="11783"/>
                  <a:pt x="8794" y="11781"/>
                  <a:pt x="8787" y="1181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60720" y="3917880"/>
            <a:ext cx="393840" cy="85680"/>
          </a:xfrm>
          <a:custGeom>
            <a:avLst/>
            <a:gdLst/>
            <a:ahLst/>
            <a:rect l="l" t="t" r="r" b="b"/>
            <a:pathLst>
              <a:path w="1096" h="239">
                <a:moveTo>
                  <a:pt x="8501" y="11097"/>
                </a:moveTo>
                <a:cubicBezTo>
                  <a:pt x="8509" y="11097"/>
                  <a:pt x="8517" y="11097"/>
                  <a:pt x="8525" y="11097"/>
                </a:cubicBezTo>
                <a:cubicBezTo>
                  <a:pt x="8531" y="11080"/>
                  <a:pt x="8567" y="11038"/>
                  <a:pt x="8596" y="11025"/>
                </a:cubicBezTo>
                <a:cubicBezTo>
                  <a:pt x="8604" y="11025"/>
                  <a:pt x="8612" y="11025"/>
                  <a:pt x="8620" y="11025"/>
                </a:cubicBezTo>
                <a:cubicBezTo>
                  <a:pt x="8639" y="10997"/>
                  <a:pt x="8649" y="11005"/>
                  <a:pt x="8668" y="10978"/>
                </a:cubicBezTo>
                <a:cubicBezTo>
                  <a:pt x="8710" y="10967"/>
                  <a:pt x="8738" y="10935"/>
                  <a:pt x="8787" y="10930"/>
                </a:cubicBezTo>
                <a:cubicBezTo>
                  <a:pt x="8811" y="10930"/>
                  <a:pt x="8818" y="10930"/>
                  <a:pt x="8834" y="10930"/>
                </a:cubicBezTo>
                <a:cubicBezTo>
                  <a:pt x="8845" y="10896"/>
                  <a:pt x="8841" y="10906"/>
                  <a:pt x="8882" y="10906"/>
                </a:cubicBezTo>
                <a:cubicBezTo>
                  <a:pt x="8894" y="10870"/>
                  <a:pt x="8910" y="10882"/>
                  <a:pt x="8953" y="10882"/>
                </a:cubicBezTo>
                <a:cubicBezTo>
                  <a:pt x="9033" y="10882"/>
                  <a:pt x="9112" y="10882"/>
                  <a:pt x="9192" y="10882"/>
                </a:cubicBezTo>
                <a:cubicBezTo>
                  <a:pt x="9192" y="10961"/>
                  <a:pt x="9192" y="11041"/>
                  <a:pt x="9192" y="11120"/>
                </a:cubicBezTo>
                <a:cubicBezTo>
                  <a:pt x="9327" y="11120"/>
                  <a:pt x="9461" y="11120"/>
                  <a:pt x="9596" y="1112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97280" y="1946160"/>
            <a:ext cx="138240" cy="454320"/>
          </a:xfrm>
          <a:custGeom>
            <a:avLst/>
            <a:gdLst/>
            <a:ahLst/>
            <a:rect l="l" t="t" r="r" b="b"/>
            <a:pathLst>
              <a:path w="382" h="1263">
                <a:moveTo>
                  <a:pt x="13049" y="5524"/>
                </a:moveTo>
                <a:cubicBezTo>
                  <a:pt x="13108" y="5524"/>
                  <a:pt x="13139" y="5524"/>
                  <a:pt x="13168" y="5501"/>
                </a:cubicBezTo>
                <a:cubicBezTo>
                  <a:pt x="13197" y="5478"/>
                  <a:pt x="13226" y="5443"/>
                  <a:pt x="13240" y="5429"/>
                </a:cubicBezTo>
                <a:cubicBezTo>
                  <a:pt x="13273" y="5396"/>
                  <a:pt x="13291" y="5407"/>
                  <a:pt x="13335" y="5405"/>
                </a:cubicBezTo>
                <a:cubicBezTo>
                  <a:pt x="13359" y="5405"/>
                  <a:pt x="13367" y="5405"/>
                  <a:pt x="13383" y="5405"/>
                </a:cubicBezTo>
                <a:cubicBezTo>
                  <a:pt x="13383" y="5649"/>
                  <a:pt x="13364" y="5915"/>
                  <a:pt x="13406" y="6144"/>
                </a:cubicBezTo>
                <a:cubicBezTo>
                  <a:pt x="13416" y="6198"/>
                  <a:pt x="13427" y="6256"/>
                  <a:pt x="13430" y="6310"/>
                </a:cubicBezTo>
                <a:cubicBezTo>
                  <a:pt x="13437" y="6428"/>
                  <a:pt x="13430" y="6549"/>
                  <a:pt x="13430" y="6667"/>
                </a:cubicBezTo>
                <a:cubicBezTo>
                  <a:pt x="13376" y="6667"/>
                  <a:pt x="13361" y="6665"/>
                  <a:pt x="13335" y="6644"/>
                </a:cubicBezTo>
                <a:cubicBezTo>
                  <a:pt x="13329" y="6640"/>
                  <a:pt x="13266" y="6623"/>
                  <a:pt x="13264" y="6620"/>
                </a:cubicBezTo>
                <a:cubicBezTo>
                  <a:pt x="13247" y="6593"/>
                  <a:pt x="13231" y="6601"/>
                  <a:pt x="13216" y="6572"/>
                </a:cubicBezTo>
                <a:cubicBezTo>
                  <a:pt x="13186" y="6512"/>
                  <a:pt x="13222" y="6559"/>
                  <a:pt x="13168" y="6525"/>
                </a:cubicBezTo>
                <a:cubicBezTo>
                  <a:pt x="13144" y="6510"/>
                  <a:pt x="13158" y="6483"/>
                  <a:pt x="13144" y="6453"/>
                </a:cubicBezTo>
                <a:cubicBezTo>
                  <a:pt x="13135" y="6434"/>
                  <a:pt x="13124" y="6428"/>
                  <a:pt x="13121" y="6382"/>
                </a:cubicBezTo>
                <a:cubicBezTo>
                  <a:pt x="13119" y="6350"/>
                  <a:pt x="13121" y="6318"/>
                  <a:pt x="13121" y="6286"/>
                </a:cubicBezTo>
                <a:cubicBezTo>
                  <a:pt x="13167" y="6280"/>
                  <a:pt x="13178" y="6293"/>
                  <a:pt x="13216" y="6263"/>
                </a:cubicBezTo>
                <a:cubicBezTo>
                  <a:pt x="13245" y="6240"/>
                  <a:pt x="13237" y="6242"/>
                  <a:pt x="13240" y="6191"/>
                </a:cubicBezTo>
                <a:cubicBezTo>
                  <a:pt x="13243" y="6142"/>
                  <a:pt x="13246" y="6109"/>
                  <a:pt x="13216" y="6072"/>
                </a:cubicBezTo>
                <a:cubicBezTo>
                  <a:pt x="13207" y="6061"/>
                  <a:pt x="13174" y="6038"/>
                  <a:pt x="13144" y="6048"/>
                </a:cubicBezTo>
                <a:cubicBezTo>
                  <a:pt x="13108" y="6060"/>
                  <a:pt x="13119" y="6074"/>
                  <a:pt x="13097" y="6096"/>
                </a:cubicBezTo>
                <a:cubicBezTo>
                  <a:pt x="13072" y="6121"/>
                  <a:pt x="13076" y="6115"/>
                  <a:pt x="13073" y="6167"/>
                </a:cubicBezTo>
                <a:cubicBezTo>
                  <a:pt x="13069" y="6239"/>
                  <a:pt x="13085" y="6298"/>
                  <a:pt x="13097" y="6358"/>
                </a:cubicBezTo>
                <a:cubicBezTo>
                  <a:pt x="13116" y="6451"/>
                  <a:pt x="13097" y="6501"/>
                  <a:pt x="13097" y="659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4920" y="3121200"/>
            <a:ext cx="77760" cy="118800"/>
          </a:xfrm>
          <a:custGeom>
            <a:avLst/>
            <a:gdLst/>
            <a:ahLst/>
            <a:rect l="l" t="t" r="r" b="b"/>
            <a:pathLst>
              <a:path w="215" h="334">
                <a:moveTo>
                  <a:pt x="13097" y="8668"/>
                </a:moveTo>
                <a:cubicBezTo>
                  <a:pt x="13124" y="8695"/>
                  <a:pt x="13157" y="8729"/>
                  <a:pt x="13168" y="8763"/>
                </a:cubicBezTo>
                <a:cubicBezTo>
                  <a:pt x="13186" y="8816"/>
                  <a:pt x="13175" y="8880"/>
                  <a:pt x="13192" y="8930"/>
                </a:cubicBezTo>
                <a:cubicBezTo>
                  <a:pt x="13192" y="8953"/>
                  <a:pt x="13192" y="8961"/>
                  <a:pt x="13192" y="8977"/>
                </a:cubicBezTo>
                <a:cubicBezTo>
                  <a:pt x="13228" y="8989"/>
                  <a:pt x="13212" y="9001"/>
                  <a:pt x="13264" y="9001"/>
                </a:cubicBezTo>
                <a:cubicBezTo>
                  <a:pt x="13287" y="9001"/>
                  <a:pt x="13295" y="9001"/>
                  <a:pt x="13311" y="9001"/>
                </a:cubicBezTo>
                <a:cubicBezTo>
                  <a:pt x="13311" y="8938"/>
                  <a:pt x="13311" y="8874"/>
                  <a:pt x="13311" y="881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8360" y="3763800"/>
            <a:ext cx="111240" cy="1800"/>
          </a:xfrm>
          <a:custGeom>
            <a:avLst/>
            <a:gdLst/>
            <a:ahLst/>
            <a:rect l="l" t="t" r="r" b="b"/>
            <a:pathLst>
              <a:path w="311" h="1">
                <a:moveTo>
                  <a:pt x="13549" y="10454"/>
                </a:moveTo>
                <a:cubicBezTo>
                  <a:pt x="13652" y="10454"/>
                  <a:pt x="13756" y="10454"/>
                  <a:pt x="13859" y="1045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763800"/>
            <a:ext cx="411120" cy="436680"/>
          </a:xfrm>
          <a:custGeom>
            <a:avLst/>
            <a:gdLst/>
            <a:ahLst/>
            <a:rect l="l" t="t" r="r" b="b"/>
            <a:pathLst>
              <a:path w="1144" h="1215">
                <a:moveTo>
                  <a:pt x="14097" y="10454"/>
                </a:moveTo>
                <a:cubicBezTo>
                  <a:pt x="14105" y="10454"/>
                  <a:pt x="14113" y="10454"/>
                  <a:pt x="14121" y="10454"/>
                </a:cubicBezTo>
                <a:cubicBezTo>
                  <a:pt x="14140" y="10469"/>
                  <a:pt x="14150" y="10491"/>
                  <a:pt x="14192" y="10501"/>
                </a:cubicBezTo>
                <a:cubicBezTo>
                  <a:pt x="14216" y="10501"/>
                  <a:pt x="14224" y="10501"/>
                  <a:pt x="14240" y="10501"/>
                </a:cubicBezTo>
                <a:cubicBezTo>
                  <a:pt x="14255" y="10521"/>
                  <a:pt x="14249" y="10529"/>
                  <a:pt x="14264" y="10549"/>
                </a:cubicBezTo>
                <a:cubicBezTo>
                  <a:pt x="14283" y="10564"/>
                  <a:pt x="14292" y="10558"/>
                  <a:pt x="14311" y="10573"/>
                </a:cubicBezTo>
                <a:cubicBezTo>
                  <a:pt x="14326" y="10592"/>
                  <a:pt x="14320" y="10601"/>
                  <a:pt x="14335" y="10620"/>
                </a:cubicBezTo>
                <a:cubicBezTo>
                  <a:pt x="14367" y="10632"/>
                  <a:pt x="14397" y="10633"/>
                  <a:pt x="14430" y="10644"/>
                </a:cubicBezTo>
                <a:cubicBezTo>
                  <a:pt x="14522" y="10675"/>
                  <a:pt x="14575" y="10763"/>
                  <a:pt x="14645" y="10811"/>
                </a:cubicBezTo>
                <a:cubicBezTo>
                  <a:pt x="14692" y="10844"/>
                  <a:pt x="14724" y="10881"/>
                  <a:pt x="14764" y="10906"/>
                </a:cubicBezTo>
                <a:cubicBezTo>
                  <a:pt x="14772" y="10906"/>
                  <a:pt x="14780" y="10906"/>
                  <a:pt x="14788" y="10906"/>
                </a:cubicBezTo>
                <a:cubicBezTo>
                  <a:pt x="14804" y="10934"/>
                  <a:pt x="14794" y="10944"/>
                  <a:pt x="14811" y="10978"/>
                </a:cubicBezTo>
                <a:cubicBezTo>
                  <a:pt x="14831" y="11017"/>
                  <a:pt x="14865" y="11061"/>
                  <a:pt x="14883" y="11097"/>
                </a:cubicBezTo>
                <a:cubicBezTo>
                  <a:pt x="14899" y="11129"/>
                  <a:pt x="14915" y="11161"/>
                  <a:pt x="14930" y="11192"/>
                </a:cubicBezTo>
                <a:cubicBezTo>
                  <a:pt x="14933" y="11196"/>
                  <a:pt x="14973" y="11281"/>
                  <a:pt x="14978" y="11287"/>
                </a:cubicBezTo>
                <a:cubicBezTo>
                  <a:pt x="15013" y="11328"/>
                  <a:pt x="15041" y="11353"/>
                  <a:pt x="15073" y="11406"/>
                </a:cubicBezTo>
                <a:cubicBezTo>
                  <a:pt x="15089" y="11432"/>
                  <a:pt x="15107" y="11473"/>
                  <a:pt x="15121" y="11501"/>
                </a:cubicBezTo>
                <a:cubicBezTo>
                  <a:pt x="15134" y="11518"/>
                  <a:pt x="15151" y="11539"/>
                  <a:pt x="15169" y="11573"/>
                </a:cubicBezTo>
                <a:cubicBezTo>
                  <a:pt x="15188" y="11612"/>
                  <a:pt x="15196" y="11618"/>
                  <a:pt x="15192" y="11644"/>
                </a:cubicBezTo>
                <a:cubicBezTo>
                  <a:pt x="15212" y="11659"/>
                  <a:pt x="15220" y="11653"/>
                  <a:pt x="15240" y="1166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4040" y="4218120"/>
            <a:ext cx="128520" cy="1440"/>
          </a:xfrm>
          <a:custGeom>
            <a:avLst/>
            <a:gdLst/>
            <a:ahLst/>
            <a:rect l="l" t="t" r="r" b="b"/>
            <a:pathLst>
              <a:path w="358" h="1">
                <a:moveTo>
                  <a:pt x="15288" y="11716"/>
                </a:moveTo>
                <a:cubicBezTo>
                  <a:pt x="15407" y="11716"/>
                  <a:pt x="15526" y="11716"/>
                  <a:pt x="15645" y="117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36680" y="2478240"/>
            <a:ext cx="1517760" cy="1293840"/>
          </a:xfrm>
          <a:custGeom>
            <a:avLst/>
            <a:gdLst/>
            <a:ahLst/>
            <a:rect l="l" t="t" r="r" b="b"/>
            <a:pathLst>
              <a:path w="4216" h="3596">
                <a:moveTo>
                  <a:pt x="7858" y="6882"/>
                </a:moveTo>
                <a:cubicBezTo>
                  <a:pt x="7938" y="6891"/>
                  <a:pt x="8016" y="6901"/>
                  <a:pt x="8096" y="6906"/>
                </a:cubicBezTo>
                <a:cubicBezTo>
                  <a:pt x="8162" y="6910"/>
                  <a:pt x="8207" y="6900"/>
                  <a:pt x="8263" y="6929"/>
                </a:cubicBezTo>
                <a:cubicBezTo>
                  <a:pt x="8293" y="6944"/>
                  <a:pt x="8298" y="6949"/>
                  <a:pt x="8334" y="6977"/>
                </a:cubicBezTo>
                <a:cubicBezTo>
                  <a:pt x="8382" y="7014"/>
                  <a:pt x="8404" y="7053"/>
                  <a:pt x="8430" y="7096"/>
                </a:cubicBezTo>
                <a:cubicBezTo>
                  <a:pt x="8479" y="7177"/>
                  <a:pt x="8473" y="7217"/>
                  <a:pt x="8477" y="7310"/>
                </a:cubicBezTo>
                <a:cubicBezTo>
                  <a:pt x="8482" y="7419"/>
                  <a:pt x="8483" y="7471"/>
                  <a:pt x="8525" y="7572"/>
                </a:cubicBezTo>
                <a:cubicBezTo>
                  <a:pt x="8556" y="7646"/>
                  <a:pt x="8599" y="7740"/>
                  <a:pt x="8644" y="7810"/>
                </a:cubicBezTo>
                <a:cubicBezTo>
                  <a:pt x="8664" y="7841"/>
                  <a:pt x="8696" y="7845"/>
                  <a:pt x="8715" y="7858"/>
                </a:cubicBezTo>
                <a:cubicBezTo>
                  <a:pt x="8716" y="7858"/>
                  <a:pt x="8781" y="7876"/>
                  <a:pt x="8787" y="7882"/>
                </a:cubicBezTo>
                <a:cubicBezTo>
                  <a:pt x="8811" y="7903"/>
                  <a:pt x="8805" y="7918"/>
                  <a:pt x="8834" y="7930"/>
                </a:cubicBezTo>
                <a:cubicBezTo>
                  <a:pt x="8839" y="7932"/>
                  <a:pt x="8881" y="7944"/>
                  <a:pt x="8906" y="7953"/>
                </a:cubicBezTo>
                <a:cubicBezTo>
                  <a:pt x="8932" y="7962"/>
                  <a:pt x="8997" y="7976"/>
                  <a:pt x="9001" y="7977"/>
                </a:cubicBezTo>
                <a:cubicBezTo>
                  <a:pt x="8992" y="7981"/>
                  <a:pt x="8956" y="8013"/>
                  <a:pt x="8930" y="8025"/>
                </a:cubicBezTo>
                <a:cubicBezTo>
                  <a:pt x="8880" y="8048"/>
                  <a:pt x="8823" y="8081"/>
                  <a:pt x="8763" y="8096"/>
                </a:cubicBezTo>
                <a:cubicBezTo>
                  <a:pt x="8676" y="8118"/>
                  <a:pt x="8611" y="8107"/>
                  <a:pt x="8525" y="8168"/>
                </a:cubicBezTo>
                <a:cubicBezTo>
                  <a:pt x="8459" y="8215"/>
                  <a:pt x="8437" y="8309"/>
                  <a:pt x="8358" y="8334"/>
                </a:cubicBezTo>
                <a:cubicBezTo>
                  <a:pt x="8280" y="8359"/>
                  <a:pt x="8199" y="8381"/>
                  <a:pt x="8120" y="8406"/>
                </a:cubicBezTo>
                <a:cubicBezTo>
                  <a:pt x="8090" y="8415"/>
                  <a:pt x="8032" y="8417"/>
                  <a:pt x="8001" y="8430"/>
                </a:cubicBezTo>
                <a:cubicBezTo>
                  <a:pt x="7969" y="8443"/>
                  <a:pt x="7960" y="8459"/>
                  <a:pt x="7930" y="8477"/>
                </a:cubicBezTo>
                <a:cubicBezTo>
                  <a:pt x="7906" y="8492"/>
                  <a:pt x="7864" y="8514"/>
                  <a:pt x="7834" y="8549"/>
                </a:cubicBezTo>
                <a:cubicBezTo>
                  <a:pt x="7798" y="8591"/>
                  <a:pt x="7754" y="8614"/>
                  <a:pt x="7739" y="8668"/>
                </a:cubicBezTo>
                <a:cubicBezTo>
                  <a:pt x="7727" y="8708"/>
                  <a:pt x="7762" y="8760"/>
                  <a:pt x="7763" y="8763"/>
                </a:cubicBezTo>
                <a:cubicBezTo>
                  <a:pt x="7771" y="8794"/>
                  <a:pt x="7785" y="8799"/>
                  <a:pt x="7810" y="8834"/>
                </a:cubicBezTo>
                <a:cubicBezTo>
                  <a:pt x="7835" y="8870"/>
                  <a:pt x="7855" y="8909"/>
                  <a:pt x="7882" y="8930"/>
                </a:cubicBezTo>
                <a:cubicBezTo>
                  <a:pt x="7908" y="8950"/>
                  <a:pt x="7919" y="8936"/>
                  <a:pt x="7953" y="8953"/>
                </a:cubicBezTo>
                <a:cubicBezTo>
                  <a:pt x="7984" y="8969"/>
                  <a:pt x="7991" y="8991"/>
                  <a:pt x="8025" y="9001"/>
                </a:cubicBezTo>
                <a:cubicBezTo>
                  <a:pt x="8075" y="9016"/>
                  <a:pt x="8109" y="9019"/>
                  <a:pt x="8168" y="9025"/>
                </a:cubicBezTo>
                <a:cubicBezTo>
                  <a:pt x="8270" y="9035"/>
                  <a:pt x="8358" y="9028"/>
                  <a:pt x="8453" y="9073"/>
                </a:cubicBezTo>
                <a:cubicBezTo>
                  <a:pt x="8492" y="9092"/>
                  <a:pt x="8522" y="9124"/>
                  <a:pt x="8572" y="9144"/>
                </a:cubicBezTo>
                <a:cubicBezTo>
                  <a:pt x="8579" y="9147"/>
                  <a:pt x="8615" y="9159"/>
                  <a:pt x="8644" y="9168"/>
                </a:cubicBezTo>
                <a:cubicBezTo>
                  <a:pt x="8693" y="9183"/>
                  <a:pt x="8691" y="9170"/>
                  <a:pt x="8739" y="9192"/>
                </a:cubicBezTo>
                <a:cubicBezTo>
                  <a:pt x="8786" y="9214"/>
                  <a:pt x="8816" y="9242"/>
                  <a:pt x="8858" y="9263"/>
                </a:cubicBezTo>
                <a:cubicBezTo>
                  <a:pt x="8896" y="9283"/>
                  <a:pt x="8904" y="9295"/>
                  <a:pt x="8930" y="9311"/>
                </a:cubicBezTo>
                <a:cubicBezTo>
                  <a:pt x="8961" y="9330"/>
                  <a:pt x="9016" y="9365"/>
                  <a:pt x="9049" y="9382"/>
                </a:cubicBezTo>
                <a:cubicBezTo>
                  <a:pt x="9101" y="9409"/>
                  <a:pt x="9160" y="9414"/>
                  <a:pt x="9215" y="9454"/>
                </a:cubicBezTo>
                <a:cubicBezTo>
                  <a:pt x="9236" y="9470"/>
                  <a:pt x="9250" y="9496"/>
                  <a:pt x="9287" y="9525"/>
                </a:cubicBezTo>
                <a:cubicBezTo>
                  <a:pt x="9316" y="9548"/>
                  <a:pt x="9358" y="9554"/>
                  <a:pt x="9382" y="9573"/>
                </a:cubicBezTo>
                <a:cubicBezTo>
                  <a:pt x="9401" y="9588"/>
                  <a:pt x="9402" y="9617"/>
                  <a:pt x="9430" y="9644"/>
                </a:cubicBezTo>
                <a:cubicBezTo>
                  <a:pt x="9488" y="9700"/>
                  <a:pt x="9558" y="9755"/>
                  <a:pt x="9620" y="9811"/>
                </a:cubicBezTo>
                <a:cubicBezTo>
                  <a:pt x="9634" y="9824"/>
                  <a:pt x="9657" y="9872"/>
                  <a:pt x="9668" y="9882"/>
                </a:cubicBezTo>
                <a:cubicBezTo>
                  <a:pt x="9695" y="9906"/>
                  <a:pt x="9717" y="9911"/>
                  <a:pt x="9763" y="9954"/>
                </a:cubicBezTo>
                <a:cubicBezTo>
                  <a:pt x="9814" y="10001"/>
                  <a:pt x="9853" y="10072"/>
                  <a:pt x="9906" y="10120"/>
                </a:cubicBezTo>
                <a:cubicBezTo>
                  <a:pt x="9943" y="10153"/>
                  <a:pt x="9971" y="10148"/>
                  <a:pt x="10001" y="10168"/>
                </a:cubicBezTo>
                <a:cubicBezTo>
                  <a:pt x="10022" y="10182"/>
                  <a:pt x="10020" y="10201"/>
                  <a:pt x="10049" y="10216"/>
                </a:cubicBezTo>
                <a:cubicBezTo>
                  <a:pt x="10122" y="10252"/>
                  <a:pt x="10162" y="10239"/>
                  <a:pt x="10239" y="10311"/>
                </a:cubicBezTo>
                <a:cubicBezTo>
                  <a:pt x="10265" y="10335"/>
                  <a:pt x="10314" y="10386"/>
                  <a:pt x="10335" y="10406"/>
                </a:cubicBezTo>
                <a:cubicBezTo>
                  <a:pt x="10355" y="10425"/>
                  <a:pt x="10359" y="10434"/>
                  <a:pt x="10382" y="10454"/>
                </a:cubicBezTo>
                <a:cubicBezTo>
                  <a:pt x="10390" y="10462"/>
                  <a:pt x="10398" y="10469"/>
                  <a:pt x="10406" y="10477"/>
                </a:cubicBezTo>
                <a:cubicBezTo>
                  <a:pt x="10404" y="10423"/>
                  <a:pt x="10410" y="10191"/>
                  <a:pt x="10382" y="10096"/>
                </a:cubicBezTo>
                <a:cubicBezTo>
                  <a:pt x="10331" y="9926"/>
                  <a:pt x="10283" y="9761"/>
                  <a:pt x="10239" y="9596"/>
                </a:cubicBezTo>
                <a:cubicBezTo>
                  <a:pt x="10216" y="9596"/>
                  <a:pt x="10208" y="9596"/>
                  <a:pt x="10216" y="9573"/>
                </a:cubicBezTo>
                <a:cubicBezTo>
                  <a:pt x="10170" y="9580"/>
                  <a:pt x="10178" y="9593"/>
                  <a:pt x="10144" y="9596"/>
                </a:cubicBezTo>
                <a:cubicBezTo>
                  <a:pt x="10009" y="9609"/>
                  <a:pt x="9900" y="9570"/>
                  <a:pt x="9787" y="9501"/>
                </a:cubicBezTo>
                <a:cubicBezTo>
                  <a:pt x="9758" y="9483"/>
                  <a:pt x="9737" y="9468"/>
                  <a:pt x="9715" y="9454"/>
                </a:cubicBezTo>
                <a:cubicBezTo>
                  <a:pt x="9685" y="9435"/>
                  <a:pt x="9567" y="9362"/>
                  <a:pt x="9525" y="9334"/>
                </a:cubicBezTo>
                <a:cubicBezTo>
                  <a:pt x="9375" y="9235"/>
                  <a:pt x="9225" y="9117"/>
                  <a:pt x="9073" y="9025"/>
                </a:cubicBezTo>
                <a:cubicBezTo>
                  <a:pt x="9029" y="8999"/>
                  <a:pt x="9006" y="8982"/>
                  <a:pt x="8977" y="8953"/>
                </a:cubicBezTo>
                <a:cubicBezTo>
                  <a:pt x="8949" y="8925"/>
                  <a:pt x="8967" y="8897"/>
                  <a:pt x="8930" y="8882"/>
                </a:cubicBezTo>
                <a:cubicBezTo>
                  <a:pt x="8873" y="8859"/>
                  <a:pt x="8772" y="8846"/>
                  <a:pt x="8715" y="8834"/>
                </a:cubicBezTo>
                <a:cubicBezTo>
                  <a:pt x="8607" y="8811"/>
                  <a:pt x="8456" y="8808"/>
                  <a:pt x="8358" y="8763"/>
                </a:cubicBezTo>
                <a:cubicBezTo>
                  <a:pt x="8324" y="8747"/>
                  <a:pt x="8324" y="8700"/>
                  <a:pt x="8287" y="8692"/>
                </a:cubicBezTo>
                <a:cubicBezTo>
                  <a:pt x="8126" y="8656"/>
                  <a:pt x="7973" y="8702"/>
                  <a:pt x="7834" y="8763"/>
                </a:cubicBezTo>
                <a:cubicBezTo>
                  <a:pt x="7768" y="8792"/>
                  <a:pt x="7711" y="8821"/>
                  <a:pt x="7644" y="8834"/>
                </a:cubicBezTo>
                <a:cubicBezTo>
                  <a:pt x="7491" y="8864"/>
                  <a:pt x="7344" y="8866"/>
                  <a:pt x="7191" y="8930"/>
                </a:cubicBezTo>
                <a:cubicBezTo>
                  <a:pt x="7110" y="8964"/>
                  <a:pt x="7082" y="8988"/>
                  <a:pt x="7001" y="9001"/>
                </a:cubicBezTo>
                <a:cubicBezTo>
                  <a:pt x="6790" y="9036"/>
                  <a:pt x="6648" y="9028"/>
                  <a:pt x="6429" y="9120"/>
                </a:cubicBezTo>
                <a:cubicBezTo>
                  <a:pt x="6369" y="9145"/>
                  <a:pt x="6290" y="9166"/>
                  <a:pt x="6239" y="9192"/>
                </a:cubicBezTo>
                <a:cubicBezTo>
                  <a:pt x="6215" y="9192"/>
                  <a:pt x="6207" y="9192"/>
                  <a:pt x="6215" y="9215"/>
                </a:cubicBezTo>
                <a:cubicBezTo>
                  <a:pt x="6229" y="9220"/>
                  <a:pt x="6290" y="9281"/>
                  <a:pt x="6334" y="9287"/>
                </a:cubicBezTo>
                <a:cubicBezTo>
                  <a:pt x="6457" y="9303"/>
                  <a:pt x="6591" y="9304"/>
                  <a:pt x="6715" y="9311"/>
                </a:cubicBezTo>
                <a:cubicBezTo>
                  <a:pt x="6863" y="9319"/>
                  <a:pt x="7162" y="9350"/>
                  <a:pt x="7263" y="9287"/>
                </a:cubicBezTo>
                <a:cubicBezTo>
                  <a:pt x="7355" y="9230"/>
                  <a:pt x="7427" y="9152"/>
                  <a:pt x="7525" y="9096"/>
                </a:cubicBezTo>
                <a:cubicBezTo>
                  <a:pt x="7582" y="9063"/>
                  <a:pt x="7618" y="9029"/>
                  <a:pt x="7691" y="9025"/>
                </a:cubicBezTo>
                <a:cubicBezTo>
                  <a:pt x="7761" y="9021"/>
                  <a:pt x="7815" y="9046"/>
                  <a:pt x="7882" y="9049"/>
                </a:cubicBezTo>
                <a:cubicBezTo>
                  <a:pt x="7981" y="9053"/>
                  <a:pt x="8084" y="9036"/>
                  <a:pt x="8168" y="9025"/>
                </a:cubicBezTo>
                <a:cubicBezTo>
                  <a:pt x="8135" y="8915"/>
                  <a:pt x="8109" y="8881"/>
                  <a:pt x="8049" y="8763"/>
                </a:cubicBezTo>
                <a:cubicBezTo>
                  <a:pt x="7926" y="8521"/>
                  <a:pt x="7749" y="8296"/>
                  <a:pt x="7691" y="8025"/>
                </a:cubicBezTo>
                <a:cubicBezTo>
                  <a:pt x="7664" y="7897"/>
                  <a:pt x="7654" y="7854"/>
                  <a:pt x="7596" y="7763"/>
                </a:cubicBezTo>
                <a:cubicBezTo>
                  <a:pt x="7551" y="7693"/>
                  <a:pt x="7607" y="7736"/>
                  <a:pt x="7525" y="7715"/>
                </a:cubicBezTo>
                <a:cubicBezTo>
                  <a:pt x="7488" y="7706"/>
                  <a:pt x="7470" y="7726"/>
                  <a:pt x="7453" y="7739"/>
                </a:cubicBezTo>
                <a:cubicBezTo>
                  <a:pt x="7418" y="7766"/>
                  <a:pt x="7455" y="7773"/>
                  <a:pt x="7429" y="7810"/>
                </a:cubicBezTo>
                <a:cubicBezTo>
                  <a:pt x="7405" y="7844"/>
                  <a:pt x="7377" y="7891"/>
                  <a:pt x="7358" y="7930"/>
                </a:cubicBezTo>
                <a:cubicBezTo>
                  <a:pt x="7307" y="8035"/>
                  <a:pt x="7245" y="8114"/>
                  <a:pt x="7191" y="8215"/>
                </a:cubicBezTo>
                <a:cubicBezTo>
                  <a:pt x="7168" y="8259"/>
                  <a:pt x="7152" y="8371"/>
                  <a:pt x="7120" y="8406"/>
                </a:cubicBezTo>
                <a:cubicBezTo>
                  <a:pt x="7096" y="8406"/>
                  <a:pt x="7088" y="8406"/>
                  <a:pt x="7072" y="8406"/>
                </a:cubicBezTo>
                <a:cubicBezTo>
                  <a:pt x="7148" y="8368"/>
                  <a:pt x="7185" y="8354"/>
                  <a:pt x="7263" y="8334"/>
                </a:cubicBezTo>
                <a:cubicBezTo>
                  <a:pt x="7440" y="8289"/>
                  <a:pt x="7563" y="8286"/>
                  <a:pt x="7739" y="8191"/>
                </a:cubicBezTo>
                <a:cubicBezTo>
                  <a:pt x="7788" y="8165"/>
                  <a:pt x="7858" y="8110"/>
                  <a:pt x="7882" y="8096"/>
                </a:cubicBezTo>
                <a:cubicBezTo>
                  <a:pt x="7946" y="8060"/>
                  <a:pt x="7920" y="8093"/>
                  <a:pt x="7977" y="8049"/>
                </a:cubicBezTo>
                <a:cubicBezTo>
                  <a:pt x="8004" y="8028"/>
                  <a:pt x="8001" y="7994"/>
                  <a:pt x="8049" y="7977"/>
                </a:cubicBezTo>
                <a:cubicBezTo>
                  <a:pt x="8133" y="7947"/>
                  <a:pt x="8220" y="7941"/>
                  <a:pt x="8311" y="7930"/>
                </a:cubicBezTo>
                <a:cubicBezTo>
                  <a:pt x="8334" y="7927"/>
                  <a:pt x="8359" y="7931"/>
                  <a:pt x="8382" y="7930"/>
                </a:cubicBezTo>
                <a:cubicBezTo>
                  <a:pt x="8325" y="7854"/>
                  <a:pt x="8238" y="7668"/>
                  <a:pt x="8168" y="7620"/>
                </a:cubicBezTo>
                <a:cubicBezTo>
                  <a:pt x="8119" y="7586"/>
                  <a:pt x="8109" y="7607"/>
                  <a:pt x="8049" y="7596"/>
                </a:cubicBezTo>
                <a:cubicBezTo>
                  <a:pt x="7945" y="7577"/>
                  <a:pt x="7821" y="7596"/>
                  <a:pt x="7715" y="7596"/>
                </a:cubicBezTo>
                <a:cubicBezTo>
                  <a:pt x="7730" y="7561"/>
                  <a:pt x="7726" y="7545"/>
                  <a:pt x="7739" y="7525"/>
                </a:cubicBezTo>
                <a:cubicBezTo>
                  <a:pt x="7759" y="7495"/>
                  <a:pt x="7753" y="7493"/>
                  <a:pt x="7787" y="7477"/>
                </a:cubicBezTo>
                <a:cubicBezTo>
                  <a:pt x="7806" y="7468"/>
                  <a:pt x="7812" y="7459"/>
                  <a:pt x="7858" y="7453"/>
                </a:cubicBezTo>
                <a:cubicBezTo>
                  <a:pt x="7926" y="7445"/>
                  <a:pt x="7994" y="7467"/>
                  <a:pt x="8049" y="7477"/>
                </a:cubicBezTo>
                <a:cubicBezTo>
                  <a:pt x="8103" y="7487"/>
                  <a:pt x="8166" y="7510"/>
                  <a:pt x="8191" y="7525"/>
                </a:cubicBezTo>
                <a:cubicBezTo>
                  <a:pt x="8216" y="7540"/>
                  <a:pt x="8233" y="7564"/>
                  <a:pt x="8263" y="7596"/>
                </a:cubicBezTo>
                <a:cubicBezTo>
                  <a:pt x="8284" y="7638"/>
                  <a:pt x="8287" y="7649"/>
                  <a:pt x="8311" y="766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1960" y="3129120"/>
            <a:ext cx="857160" cy="480960"/>
          </a:xfrm>
          <a:custGeom>
            <a:avLst/>
            <a:gdLst/>
            <a:ahLst/>
            <a:rect l="l" t="t" r="r" b="b"/>
            <a:pathLst>
              <a:path w="2382" h="1334">
                <a:moveTo>
                  <a:pt x="8811" y="8715"/>
                </a:moveTo>
                <a:cubicBezTo>
                  <a:pt x="8822" y="8711"/>
                  <a:pt x="8841" y="8694"/>
                  <a:pt x="8882" y="8692"/>
                </a:cubicBezTo>
                <a:cubicBezTo>
                  <a:pt x="9003" y="8687"/>
                  <a:pt x="9132" y="8704"/>
                  <a:pt x="9239" y="8715"/>
                </a:cubicBezTo>
                <a:cubicBezTo>
                  <a:pt x="9295" y="8721"/>
                  <a:pt x="9313" y="8720"/>
                  <a:pt x="9358" y="8739"/>
                </a:cubicBezTo>
                <a:cubicBezTo>
                  <a:pt x="9406" y="8759"/>
                  <a:pt x="9431" y="8801"/>
                  <a:pt x="9477" y="8834"/>
                </a:cubicBezTo>
                <a:cubicBezTo>
                  <a:pt x="9505" y="8854"/>
                  <a:pt x="9505" y="8850"/>
                  <a:pt x="9549" y="8858"/>
                </a:cubicBezTo>
                <a:cubicBezTo>
                  <a:pt x="9580" y="8863"/>
                  <a:pt x="9589" y="8878"/>
                  <a:pt x="9620" y="8882"/>
                </a:cubicBezTo>
                <a:cubicBezTo>
                  <a:pt x="9681" y="8890"/>
                  <a:pt x="9681" y="8880"/>
                  <a:pt x="9715" y="8906"/>
                </a:cubicBezTo>
                <a:cubicBezTo>
                  <a:pt x="9724" y="8913"/>
                  <a:pt x="9800" y="8943"/>
                  <a:pt x="9811" y="8953"/>
                </a:cubicBezTo>
                <a:cubicBezTo>
                  <a:pt x="9841" y="8979"/>
                  <a:pt x="9839" y="9011"/>
                  <a:pt x="9858" y="9025"/>
                </a:cubicBezTo>
                <a:cubicBezTo>
                  <a:pt x="9894" y="9052"/>
                  <a:pt x="9965" y="9081"/>
                  <a:pt x="10001" y="9120"/>
                </a:cubicBezTo>
                <a:cubicBezTo>
                  <a:pt x="10073" y="9199"/>
                  <a:pt x="10152" y="9313"/>
                  <a:pt x="10192" y="9382"/>
                </a:cubicBezTo>
                <a:cubicBezTo>
                  <a:pt x="10212" y="9416"/>
                  <a:pt x="10228" y="9450"/>
                  <a:pt x="10263" y="9477"/>
                </a:cubicBezTo>
                <a:cubicBezTo>
                  <a:pt x="10281" y="9491"/>
                  <a:pt x="10327" y="9512"/>
                  <a:pt x="10335" y="9525"/>
                </a:cubicBezTo>
                <a:cubicBezTo>
                  <a:pt x="10354" y="9557"/>
                  <a:pt x="10354" y="9582"/>
                  <a:pt x="10382" y="9620"/>
                </a:cubicBezTo>
                <a:cubicBezTo>
                  <a:pt x="10405" y="9651"/>
                  <a:pt x="10435" y="9703"/>
                  <a:pt x="10454" y="9715"/>
                </a:cubicBezTo>
                <a:cubicBezTo>
                  <a:pt x="10500" y="9743"/>
                  <a:pt x="10534" y="9736"/>
                  <a:pt x="10620" y="9739"/>
                </a:cubicBezTo>
                <a:cubicBezTo>
                  <a:pt x="10809" y="9745"/>
                  <a:pt x="10909" y="9778"/>
                  <a:pt x="11049" y="9906"/>
                </a:cubicBezTo>
                <a:cubicBezTo>
                  <a:pt x="11082" y="9936"/>
                  <a:pt x="11078" y="9985"/>
                  <a:pt x="11120" y="10001"/>
                </a:cubicBezTo>
                <a:cubicBezTo>
                  <a:pt x="11150" y="10013"/>
                  <a:pt x="11204" y="10055"/>
                  <a:pt x="11192" y="10025"/>
                </a:cubicBezTo>
                <a:cubicBezTo>
                  <a:pt x="11161" y="9949"/>
                  <a:pt x="11229" y="10028"/>
                  <a:pt x="11144" y="9977"/>
                </a:cubicBezTo>
                <a:cubicBezTo>
                  <a:pt x="11122" y="9941"/>
                  <a:pt x="11112" y="9912"/>
                  <a:pt x="11073" y="9882"/>
                </a:cubicBezTo>
                <a:cubicBezTo>
                  <a:pt x="11039" y="9856"/>
                  <a:pt x="10971" y="9838"/>
                  <a:pt x="10930" y="9811"/>
                </a:cubicBezTo>
                <a:cubicBezTo>
                  <a:pt x="10816" y="9737"/>
                  <a:pt x="10716" y="9670"/>
                  <a:pt x="10620" y="9573"/>
                </a:cubicBezTo>
                <a:cubicBezTo>
                  <a:pt x="10587" y="9540"/>
                  <a:pt x="10568" y="9512"/>
                  <a:pt x="10549" y="9477"/>
                </a:cubicBezTo>
                <a:cubicBezTo>
                  <a:pt x="10538" y="9458"/>
                  <a:pt x="10513" y="9431"/>
                  <a:pt x="10501" y="9406"/>
                </a:cubicBezTo>
                <a:cubicBezTo>
                  <a:pt x="10478" y="9361"/>
                  <a:pt x="10468" y="9311"/>
                  <a:pt x="10430" y="9263"/>
                </a:cubicBezTo>
                <a:cubicBezTo>
                  <a:pt x="10389" y="9213"/>
                  <a:pt x="10367" y="9192"/>
                  <a:pt x="10311" y="9168"/>
                </a:cubicBezTo>
                <a:cubicBezTo>
                  <a:pt x="10303" y="9168"/>
                  <a:pt x="10295" y="9168"/>
                  <a:pt x="10287" y="9168"/>
                </a:cubicBezTo>
                <a:cubicBezTo>
                  <a:pt x="10278" y="9122"/>
                  <a:pt x="10272" y="9093"/>
                  <a:pt x="10263" y="9073"/>
                </a:cubicBezTo>
                <a:cubicBezTo>
                  <a:pt x="10249" y="9041"/>
                  <a:pt x="10228" y="9043"/>
                  <a:pt x="10192" y="902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22720" y="3651120"/>
            <a:ext cx="395280" cy="301680"/>
          </a:xfrm>
          <a:custGeom>
            <a:avLst/>
            <a:gdLst/>
            <a:ahLst/>
            <a:rect l="l" t="t" r="r" b="b"/>
            <a:pathLst>
              <a:path w="1096" h="835">
                <a:moveTo>
                  <a:pt x="11454" y="10144"/>
                </a:moveTo>
                <a:cubicBezTo>
                  <a:pt x="11524" y="10144"/>
                  <a:pt x="11587" y="10159"/>
                  <a:pt x="11644" y="10168"/>
                </a:cubicBezTo>
                <a:cubicBezTo>
                  <a:pt x="11689" y="10175"/>
                  <a:pt x="11727" y="10169"/>
                  <a:pt x="11763" y="10192"/>
                </a:cubicBezTo>
                <a:cubicBezTo>
                  <a:pt x="11805" y="10218"/>
                  <a:pt x="11810" y="10210"/>
                  <a:pt x="11859" y="10216"/>
                </a:cubicBezTo>
                <a:cubicBezTo>
                  <a:pt x="11874" y="10231"/>
                  <a:pt x="11898" y="10266"/>
                  <a:pt x="11930" y="10287"/>
                </a:cubicBezTo>
                <a:cubicBezTo>
                  <a:pt x="11962" y="10307"/>
                  <a:pt x="11993" y="10326"/>
                  <a:pt x="12025" y="10358"/>
                </a:cubicBezTo>
                <a:cubicBezTo>
                  <a:pt x="12056" y="10388"/>
                  <a:pt x="12063" y="10420"/>
                  <a:pt x="12097" y="10454"/>
                </a:cubicBezTo>
                <a:cubicBezTo>
                  <a:pt x="12152" y="10509"/>
                  <a:pt x="12201" y="10555"/>
                  <a:pt x="12263" y="10573"/>
                </a:cubicBezTo>
                <a:cubicBezTo>
                  <a:pt x="12287" y="10645"/>
                  <a:pt x="12264" y="10608"/>
                  <a:pt x="12335" y="10620"/>
                </a:cubicBezTo>
                <a:cubicBezTo>
                  <a:pt x="12343" y="10620"/>
                  <a:pt x="12351" y="10620"/>
                  <a:pt x="12359" y="10620"/>
                </a:cubicBezTo>
                <a:cubicBezTo>
                  <a:pt x="12372" y="10631"/>
                  <a:pt x="12397" y="10658"/>
                  <a:pt x="12430" y="10668"/>
                </a:cubicBezTo>
                <a:cubicBezTo>
                  <a:pt x="12438" y="10668"/>
                  <a:pt x="12446" y="10668"/>
                  <a:pt x="12454" y="10668"/>
                </a:cubicBezTo>
                <a:cubicBezTo>
                  <a:pt x="12459" y="10704"/>
                  <a:pt x="12460" y="10734"/>
                  <a:pt x="12478" y="10763"/>
                </a:cubicBezTo>
                <a:cubicBezTo>
                  <a:pt x="12515" y="10823"/>
                  <a:pt x="12519" y="10861"/>
                  <a:pt x="12525" y="10930"/>
                </a:cubicBezTo>
                <a:cubicBezTo>
                  <a:pt x="12544" y="10955"/>
                  <a:pt x="12541" y="10929"/>
                  <a:pt x="12549" y="1097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18000" y="3951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549" y="10978"/>
                </a:moveTo>
                <a:lnTo>
                  <a:pt x="12549" y="10978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3840120"/>
            <a:ext cx="1320840" cy="806400"/>
          </a:xfrm>
          <a:custGeom>
            <a:avLst/>
            <a:gdLst/>
            <a:ahLst/>
            <a:rect l="l" t="t" r="r" b="b"/>
            <a:pathLst>
              <a:path w="3668" h="2239">
                <a:moveTo>
                  <a:pt x="12549" y="10978"/>
                </a:moveTo>
                <a:cubicBezTo>
                  <a:pt x="12633" y="11032"/>
                  <a:pt x="12708" y="11085"/>
                  <a:pt x="12787" y="11144"/>
                </a:cubicBezTo>
                <a:cubicBezTo>
                  <a:pt x="12830" y="11176"/>
                  <a:pt x="12894" y="11210"/>
                  <a:pt x="12930" y="11239"/>
                </a:cubicBezTo>
                <a:cubicBezTo>
                  <a:pt x="12962" y="11265"/>
                  <a:pt x="13015" y="11351"/>
                  <a:pt x="13073" y="11406"/>
                </a:cubicBezTo>
                <a:cubicBezTo>
                  <a:pt x="13125" y="11455"/>
                  <a:pt x="13152" y="11476"/>
                  <a:pt x="13168" y="11525"/>
                </a:cubicBezTo>
                <a:cubicBezTo>
                  <a:pt x="13184" y="11574"/>
                  <a:pt x="13172" y="11621"/>
                  <a:pt x="13192" y="11668"/>
                </a:cubicBezTo>
                <a:cubicBezTo>
                  <a:pt x="13210" y="11712"/>
                  <a:pt x="13218" y="11723"/>
                  <a:pt x="13264" y="11740"/>
                </a:cubicBezTo>
                <a:cubicBezTo>
                  <a:pt x="13318" y="11760"/>
                  <a:pt x="13419" y="11740"/>
                  <a:pt x="13478" y="11740"/>
                </a:cubicBezTo>
                <a:cubicBezTo>
                  <a:pt x="13471" y="11779"/>
                  <a:pt x="13503" y="11866"/>
                  <a:pt x="13454" y="11882"/>
                </a:cubicBezTo>
                <a:cubicBezTo>
                  <a:pt x="13349" y="11916"/>
                  <a:pt x="13495" y="11921"/>
                  <a:pt x="13192" y="11906"/>
                </a:cubicBezTo>
                <a:cubicBezTo>
                  <a:pt x="12993" y="11896"/>
                  <a:pt x="12746" y="11753"/>
                  <a:pt x="12573" y="11668"/>
                </a:cubicBezTo>
                <a:cubicBezTo>
                  <a:pt x="12543" y="11653"/>
                  <a:pt x="12517" y="11634"/>
                  <a:pt x="12502" y="11620"/>
                </a:cubicBezTo>
                <a:cubicBezTo>
                  <a:pt x="12484" y="11603"/>
                  <a:pt x="12488" y="11570"/>
                  <a:pt x="12454" y="11549"/>
                </a:cubicBezTo>
                <a:cubicBezTo>
                  <a:pt x="12407" y="11519"/>
                  <a:pt x="12353" y="11496"/>
                  <a:pt x="12263" y="11454"/>
                </a:cubicBezTo>
                <a:cubicBezTo>
                  <a:pt x="12150" y="11401"/>
                  <a:pt x="12042" y="11339"/>
                  <a:pt x="11930" y="11287"/>
                </a:cubicBezTo>
                <a:cubicBezTo>
                  <a:pt x="11876" y="11262"/>
                  <a:pt x="11884" y="11282"/>
                  <a:pt x="11835" y="11239"/>
                </a:cubicBezTo>
                <a:cubicBezTo>
                  <a:pt x="11831" y="11235"/>
                  <a:pt x="11792" y="11171"/>
                  <a:pt x="11787" y="11168"/>
                </a:cubicBezTo>
                <a:cubicBezTo>
                  <a:pt x="11720" y="11132"/>
                  <a:pt x="11598" y="11101"/>
                  <a:pt x="11525" y="11073"/>
                </a:cubicBezTo>
                <a:cubicBezTo>
                  <a:pt x="11300" y="10986"/>
                  <a:pt x="11062" y="10893"/>
                  <a:pt x="10858" y="10763"/>
                </a:cubicBezTo>
                <a:cubicBezTo>
                  <a:pt x="10821" y="10740"/>
                  <a:pt x="10798" y="10695"/>
                  <a:pt x="10763" y="10668"/>
                </a:cubicBezTo>
                <a:cubicBezTo>
                  <a:pt x="10746" y="10700"/>
                  <a:pt x="10704" y="10688"/>
                  <a:pt x="10692" y="10739"/>
                </a:cubicBezTo>
                <a:cubicBezTo>
                  <a:pt x="10667" y="10843"/>
                  <a:pt x="10726" y="11009"/>
                  <a:pt x="10763" y="11097"/>
                </a:cubicBezTo>
                <a:cubicBezTo>
                  <a:pt x="10794" y="11171"/>
                  <a:pt x="10812" y="11217"/>
                  <a:pt x="10835" y="11287"/>
                </a:cubicBezTo>
                <a:cubicBezTo>
                  <a:pt x="10848" y="11326"/>
                  <a:pt x="10836" y="11334"/>
                  <a:pt x="10858" y="11359"/>
                </a:cubicBezTo>
                <a:cubicBezTo>
                  <a:pt x="10899" y="11407"/>
                  <a:pt x="10949" y="11421"/>
                  <a:pt x="11001" y="11454"/>
                </a:cubicBezTo>
                <a:cubicBezTo>
                  <a:pt x="11018" y="11465"/>
                  <a:pt x="11045" y="11486"/>
                  <a:pt x="11073" y="11501"/>
                </a:cubicBezTo>
                <a:cubicBezTo>
                  <a:pt x="11157" y="11546"/>
                  <a:pt x="11264" y="11639"/>
                  <a:pt x="11359" y="11668"/>
                </a:cubicBezTo>
                <a:cubicBezTo>
                  <a:pt x="11409" y="11684"/>
                  <a:pt x="11495" y="11680"/>
                  <a:pt x="11549" y="11692"/>
                </a:cubicBezTo>
                <a:cubicBezTo>
                  <a:pt x="11572" y="11697"/>
                  <a:pt x="11630" y="11714"/>
                  <a:pt x="11644" y="11716"/>
                </a:cubicBezTo>
                <a:cubicBezTo>
                  <a:pt x="11761" y="11729"/>
                  <a:pt x="11850" y="11730"/>
                  <a:pt x="11954" y="11811"/>
                </a:cubicBezTo>
                <a:cubicBezTo>
                  <a:pt x="12016" y="11859"/>
                  <a:pt x="12066" y="11933"/>
                  <a:pt x="12121" y="11978"/>
                </a:cubicBezTo>
                <a:cubicBezTo>
                  <a:pt x="12144" y="11997"/>
                  <a:pt x="12160" y="11995"/>
                  <a:pt x="12192" y="12025"/>
                </a:cubicBezTo>
                <a:cubicBezTo>
                  <a:pt x="12280" y="12106"/>
                  <a:pt x="12363" y="12196"/>
                  <a:pt x="12454" y="12263"/>
                </a:cubicBezTo>
                <a:cubicBezTo>
                  <a:pt x="12490" y="12290"/>
                  <a:pt x="12507" y="12319"/>
                  <a:pt x="12549" y="12335"/>
                </a:cubicBezTo>
                <a:cubicBezTo>
                  <a:pt x="12589" y="12350"/>
                  <a:pt x="12629" y="12342"/>
                  <a:pt x="12668" y="12359"/>
                </a:cubicBezTo>
                <a:cubicBezTo>
                  <a:pt x="12724" y="12384"/>
                  <a:pt x="12817" y="12402"/>
                  <a:pt x="12859" y="12430"/>
                </a:cubicBezTo>
                <a:cubicBezTo>
                  <a:pt x="12874" y="12441"/>
                  <a:pt x="12902" y="12484"/>
                  <a:pt x="12930" y="12502"/>
                </a:cubicBezTo>
                <a:cubicBezTo>
                  <a:pt x="12964" y="12524"/>
                  <a:pt x="13000" y="12535"/>
                  <a:pt x="13025" y="12573"/>
                </a:cubicBezTo>
                <a:cubicBezTo>
                  <a:pt x="13052" y="12613"/>
                  <a:pt x="13051" y="12644"/>
                  <a:pt x="13073" y="12692"/>
                </a:cubicBezTo>
                <a:cubicBezTo>
                  <a:pt x="13099" y="12749"/>
                  <a:pt x="13127" y="12801"/>
                  <a:pt x="13144" y="12859"/>
                </a:cubicBezTo>
                <a:cubicBezTo>
                  <a:pt x="13144" y="12883"/>
                  <a:pt x="13144" y="12890"/>
                  <a:pt x="13144" y="12906"/>
                </a:cubicBezTo>
                <a:cubicBezTo>
                  <a:pt x="13023" y="12823"/>
                  <a:pt x="12929" y="12709"/>
                  <a:pt x="12811" y="12597"/>
                </a:cubicBezTo>
                <a:cubicBezTo>
                  <a:pt x="12757" y="12545"/>
                  <a:pt x="12667" y="12499"/>
                  <a:pt x="12621" y="12478"/>
                </a:cubicBezTo>
                <a:cubicBezTo>
                  <a:pt x="12587" y="12463"/>
                  <a:pt x="12598" y="12459"/>
                  <a:pt x="12549" y="12454"/>
                </a:cubicBezTo>
                <a:cubicBezTo>
                  <a:pt x="12350" y="12433"/>
                  <a:pt x="12155" y="12409"/>
                  <a:pt x="11954" y="12382"/>
                </a:cubicBezTo>
                <a:cubicBezTo>
                  <a:pt x="11832" y="12366"/>
                  <a:pt x="11686" y="12378"/>
                  <a:pt x="11573" y="12335"/>
                </a:cubicBezTo>
                <a:cubicBezTo>
                  <a:pt x="11542" y="12323"/>
                  <a:pt x="11513" y="12295"/>
                  <a:pt x="11501" y="12287"/>
                </a:cubicBezTo>
                <a:cubicBezTo>
                  <a:pt x="11407" y="12228"/>
                  <a:pt x="11316" y="12152"/>
                  <a:pt x="11216" y="12097"/>
                </a:cubicBezTo>
                <a:cubicBezTo>
                  <a:pt x="11149" y="12060"/>
                  <a:pt x="11093" y="12031"/>
                  <a:pt x="11025" y="12025"/>
                </a:cubicBezTo>
                <a:cubicBezTo>
                  <a:pt x="10984" y="12021"/>
                  <a:pt x="10965" y="12050"/>
                  <a:pt x="10930" y="12073"/>
                </a:cubicBezTo>
                <a:cubicBezTo>
                  <a:pt x="10827" y="12141"/>
                  <a:pt x="10754" y="12251"/>
                  <a:pt x="10644" y="12311"/>
                </a:cubicBezTo>
                <a:cubicBezTo>
                  <a:pt x="10613" y="12328"/>
                  <a:pt x="10586" y="12328"/>
                  <a:pt x="10549" y="12335"/>
                </a:cubicBezTo>
                <a:cubicBezTo>
                  <a:pt x="10406" y="12362"/>
                  <a:pt x="10263" y="12402"/>
                  <a:pt x="10120" y="12430"/>
                </a:cubicBezTo>
                <a:cubicBezTo>
                  <a:pt x="10045" y="12445"/>
                  <a:pt x="9897" y="12436"/>
                  <a:pt x="9858" y="12406"/>
                </a:cubicBezTo>
                <a:cubicBezTo>
                  <a:pt x="9844" y="12395"/>
                  <a:pt x="9819" y="12363"/>
                  <a:pt x="9811" y="12335"/>
                </a:cubicBezTo>
                <a:cubicBezTo>
                  <a:pt x="9793" y="12275"/>
                  <a:pt x="9833" y="12233"/>
                  <a:pt x="9835" y="12192"/>
                </a:cubicBezTo>
                <a:cubicBezTo>
                  <a:pt x="9835" y="12168"/>
                  <a:pt x="9835" y="12160"/>
                  <a:pt x="9835" y="121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25680" y="3814920"/>
            <a:ext cx="198720" cy="282240"/>
          </a:xfrm>
          <a:custGeom>
            <a:avLst/>
            <a:gdLst/>
            <a:ahLst/>
            <a:rect l="l" t="t" r="r" b="b"/>
            <a:pathLst>
              <a:path w="549" h="786">
                <a:moveTo>
                  <a:pt x="9239" y="11382"/>
                </a:moveTo>
                <a:cubicBezTo>
                  <a:pt x="9350" y="11382"/>
                  <a:pt x="9462" y="11382"/>
                  <a:pt x="9573" y="11382"/>
                </a:cubicBezTo>
                <a:cubicBezTo>
                  <a:pt x="9573" y="11304"/>
                  <a:pt x="9605" y="11317"/>
                  <a:pt x="9668" y="11263"/>
                </a:cubicBezTo>
                <a:cubicBezTo>
                  <a:pt x="9698" y="11237"/>
                  <a:pt x="9769" y="11170"/>
                  <a:pt x="9787" y="11144"/>
                </a:cubicBezTo>
                <a:cubicBezTo>
                  <a:pt x="9812" y="11107"/>
                  <a:pt x="9766" y="11078"/>
                  <a:pt x="9763" y="11073"/>
                </a:cubicBezTo>
                <a:cubicBezTo>
                  <a:pt x="9759" y="11064"/>
                  <a:pt x="9747" y="11008"/>
                  <a:pt x="9739" y="11001"/>
                </a:cubicBezTo>
                <a:cubicBezTo>
                  <a:pt x="9663" y="10933"/>
                  <a:pt x="9648" y="10917"/>
                  <a:pt x="9596" y="10811"/>
                </a:cubicBezTo>
                <a:cubicBezTo>
                  <a:pt x="9571" y="10760"/>
                  <a:pt x="9540" y="10716"/>
                  <a:pt x="9525" y="10668"/>
                </a:cubicBezTo>
                <a:cubicBezTo>
                  <a:pt x="9519" y="10649"/>
                  <a:pt x="9525" y="10617"/>
                  <a:pt x="9525" y="10597"/>
                </a:cubicBezTo>
                <a:cubicBezTo>
                  <a:pt x="9469" y="10597"/>
                  <a:pt x="9414" y="10597"/>
                  <a:pt x="9358" y="105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54440" y="4003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430" y="11120"/>
                </a:moveTo>
                <a:lnTo>
                  <a:pt x="10430" y="11120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25680" y="4894200"/>
            <a:ext cx="27000" cy="1800"/>
          </a:xfrm>
          <a:custGeom>
            <a:avLst/>
            <a:gdLst/>
            <a:ahLst/>
            <a:rect l="l" t="t" r="r" b="b"/>
            <a:pathLst>
              <a:path w="73" h="1">
                <a:moveTo>
                  <a:pt x="9239" y="13597"/>
                </a:moveTo>
                <a:cubicBezTo>
                  <a:pt x="9263" y="13597"/>
                  <a:pt x="9287" y="13597"/>
                  <a:pt x="9311" y="135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4680" y="5092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763" y="14145"/>
                </a:moveTo>
                <a:lnTo>
                  <a:pt x="9763" y="14145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29240" y="5203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859" y="14454"/>
                </a:moveTo>
                <a:lnTo>
                  <a:pt x="12859" y="14454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07000" y="4079880"/>
            <a:ext cx="531720" cy="506520"/>
          </a:xfrm>
          <a:custGeom>
            <a:avLst/>
            <a:gdLst/>
            <a:ahLst/>
            <a:rect l="l" t="t" r="r" b="b"/>
            <a:pathLst>
              <a:path w="1477" h="1406">
                <a:moveTo>
                  <a:pt x="13430" y="12740"/>
                </a:moveTo>
                <a:cubicBezTo>
                  <a:pt x="13499" y="12726"/>
                  <a:pt x="13554" y="12695"/>
                  <a:pt x="13621" y="12668"/>
                </a:cubicBezTo>
                <a:cubicBezTo>
                  <a:pt x="13678" y="12645"/>
                  <a:pt x="13746" y="12636"/>
                  <a:pt x="13787" y="12597"/>
                </a:cubicBezTo>
                <a:cubicBezTo>
                  <a:pt x="13849" y="12538"/>
                  <a:pt x="13796" y="12580"/>
                  <a:pt x="13883" y="12549"/>
                </a:cubicBezTo>
                <a:cubicBezTo>
                  <a:pt x="13917" y="12537"/>
                  <a:pt x="13940" y="12535"/>
                  <a:pt x="13978" y="12525"/>
                </a:cubicBezTo>
                <a:cubicBezTo>
                  <a:pt x="14017" y="12515"/>
                  <a:pt x="14060" y="12495"/>
                  <a:pt x="14097" y="12478"/>
                </a:cubicBezTo>
                <a:cubicBezTo>
                  <a:pt x="14149" y="12455"/>
                  <a:pt x="14190" y="12415"/>
                  <a:pt x="14240" y="12382"/>
                </a:cubicBezTo>
                <a:cubicBezTo>
                  <a:pt x="14273" y="12360"/>
                  <a:pt x="14292" y="12352"/>
                  <a:pt x="14311" y="12335"/>
                </a:cubicBezTo>
                <a:cubicBezTo>
                  <a:pt x="14339" y="12310"/>
                  <a:pt x="14336" y="12328"/>
                  <a:pt x="14383" y="12311"/>
                </a:cubicBezTo>
                <a:cubicBezTo>
                  <a:pt x="14426" y="12296"/>
                  <a:pt x="14426" y="12272"/>
                  <a:pt x="14454" y="12240"/>
                </a:cubicBezTo>
                <a:cubicBezTo>
                  <a:pt x="14488" y="12202"/>
                  <a:pt x="14524" y="12155"/>
                  <a:pt x="14549" y="12121"/>
                </a:cubicBezTo>
                <a:cubicBezTo>
                  <a:pt x="14481" y="12052"/>
                  <a:pt x="14430" y="11960"/>
                  <a:pt x="14383" y="11859"/>
                </a:cubicBezTo>
                <a:cubicBezTo>
                  <a:pt x="14306" y="11692"/>
                  <a:pt x="14236" y="11515"/>
                  <a:pt x="14145" y="11359"/>
                </a:cubicBezTo>
                <a:cubicBezTo>
                  <a:pt x="14135" y="11341"/>
                  <a:pt x="14105" y="11337"/>
                  <a:pt x="14073" y="11335"/>
                </a:cubicBezTo>
                <a:cubicBezTo>
                  <a:pt x="13998" y="11331"/>
                  <a:pt x="13993" y="11347"/>
                  <a:pt x="13930" y="11382"/>
                </a:cubicBezTo>
                <a:cubicBezTo>
                  <a:pt x="13838" y="11433"/>
                  <a:pt x="13717" y="11531"/>
                  <a:pt x="13621" y="11573"/>
                </a:cubicBezTo>
                <a:cubicBezTo>
                  <a:pt x="13590" y="11587"/>
                  <a:pt x="13573" y="11592"/>
                  <a:pt x="13549" y="11597"/>
                </a:cubicBezTo>
                <a:cubicBezTo>
                  <a:pt x="13420" y="11623"/>
                  <a:pt x="13266" y="11592"/>
                  <a:pt x="13144" y="11573"/>
                </a:cubicBezTo>
                <a:cubicBezTo>
                  <a:pt x="13099" y="11566"/>
                  <a:pt x="13088" y="11589"/>
                  <a:pt x="13073" y="11549"/>
                </a:cubicBezTo>
                <a:cubicBezTo>
                  <a:pt x="13073" y="11525"/>
                  <a:pt x="13073" y="11517"/>
                  <a:pt x="13073" y="1150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ND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55627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5486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20% of Greece is farmable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rmers grow olives, figs, fruit, grapes, and very little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603760" cy="420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CE’S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434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2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oponnesus Peninsula and numerous                                              islands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514600"/>
            <a:ext cx="3581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They were separated from one another by                                        rugged mountains, bays and inlets, and by being on an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56386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Most Ancient Greeks were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9150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286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A Mediterranean climate – mild winters with hot, sunny summers . . .  you can grow crops all year round . . .  similar to souther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514600"/>
            <a:ext cx="28958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Mainly grow grapes and o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 small amounts of wheat and b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808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Main disadvantage is that only ¼ of the land is level so they could only grow small amounts of grain crops and, therefore, they had to trade with others to get more g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topographical map of greece"/>
          <p:cNvPicPr/>
          <p:nvPr/>
        </p:nvPicPr>
        <p:blipFill>
          <a:blip r:embed="rId1"/>
          <a:stretch/>
        </p:blipFill>
        <p:spPr>
          <a:xfrm>
            <a:off x="2057400" y="2362320"/>
            <a:ext cx="5010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533520"/>
            <a:ext cx="304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Main advantage is the sea – it connected all Greeks to one another and Greece to other civilizations because you are never far from the sea when you are in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581280" y="609480"/>
            <a:ext cx="522000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graphy of Ancient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0360" y="1144800"/>
            <a:ext cx="7980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where did the Ancient Greeks sett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the early Greek communities were isolated from one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ccupation did most of the Ancient Greeks prac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type of climate Greece has and describ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 What crops were grown in Ancient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600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loponnesus Peninsula and on the numerous islands in the Aege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666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gged mountains, all of the bays and inlets, and numerous islands separat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7339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876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diterranean climate = mild winters and hot, sunny summers (similar to southern California)  can grow crops al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594360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pes and o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all amounts of wheat and ba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5120" y="457560"/>
            <a:ext cx="82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 Explain the major disadvantage to Greece’s geography and the problems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 Ancient Gre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  Explain the major advantage of Greece’s geography and how it helpe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219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ly ¼ of Greece’s land is flat so they can only grow small amounts of grain crops so they have to trade with others to be able to feed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971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 of Greece is very close to the sea and, therefore, it connects all of the Greeks together and with other civilizations that it will need to trad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0292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is located in southern Europe between Albania and Turkey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borders the Aegean Sea, Ionian Sea, and the Mediterranean Sea.  It has a population of 10,964,020.  Athens is its capit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990720" y="1066680"/>
            <a:ext cx="71625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has a total area of 131,940 sq km.  That means it is slightly smaller than Alab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9212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410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has a Mediterranean climate with plenty of sunshine, mild temperatures and a limited amount of rainf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Monastery of Agia Triada Meteora Greece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486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ummer, the dry hot days are cooled by seasonal winds called the meltemi, while mountainous regions have generally lower temper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File:Greece West Coast Parga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371600"/>
            <a:ext cx="7086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410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inters are mild in lowland areas, with a minimum amount of snow and ice, yet, mountains are usually snow-cove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Photo: Metéora Greece after snowfall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523880"/>
            <a:ext cx="426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consists of a mountainous and craggy mainland jutting out into the sea. Four-fifths of Greece consist of mountains or hills, making the country one of the most mountainous in Europe. Greece has the tenth longest coastline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324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5:19:05Z</dcterms:created>
  <dc:creator>ccps</dc:creator>
  <dc:description/>
  <dc:language>en-US</dc:language>
  <cp:lastModifiedBy>gehadde</cp:lastModifiedBy>
  <dcterms:modified xsi:type="dcterms:W3CDTF">2012-04-23T13:18:08Z</dcterms:modified>
  <cp:revision>39</cp:revision>
  <dc:subject/>
  <dc:title>GREECE</dc:title>
</cp:coreProperties>
</file>